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9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gif" ContentType="image/gif"/>
  <Override PartName="/ppt/media/image18.jpeg" ContentType="image/jpeg"/>
  <Override PartName="/ppt/media/image19.jpeg" ContentType="image/jpeg"/>
  <Override PartName="/ppt/media/image16.jpeg" ContentType="image/jpeg"/>
  <Override PartName="/ppt/media/image1.jpeg" ContentType="image/jpeg"/>
  <Override PartName="/ppt/media/image15.wmf" ContentType="image/x-wmf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F78A-495A-47D1-BB53-E3FCD7BB1967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6CB7-C67C-4A8C-B513-BF741BA7730E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F65D-A433-443F-8E51-D99C3E38FC7E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258F-BEC3-4C9E-9B7F-D563FD608D02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20B3-BE0C-4A9E-83FD-9B2636D21E18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77EC-9CBC-4EFE-8BAD-4D207FCF17BF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DEFE-7AE8-4462-9CB4-EF9871CB1102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7607-2263-4669-B656-5D0FBEEF12C6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96BE-4312-441C-8194-6D15D675FD5D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8D89-FD20-453D-9E7C-50DDB9D89FAF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2444-6A49-415F-ACF9-E7C3DCDEE89E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1047-A614-4D29-91BD-1A3ADD3DFD99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4D43-0D41-4F11-B1BB-3175CE5C9B59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0E71-EF3D-4040-B997-FC5050E2029D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D2A4-613D-4450-AEB7-945E01F1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A379-49A6-4272-8B00-B2D9A508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A9B6B-E9AB-45DD-B688-5D24D728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676DA-9621-44B0-8C25-60938ED9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44605-172D-47D5-93AD-8E059158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236A4-2C35-4C14-8159-05993205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B3B4D-8B17-49DD-93E6-5780A810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520BB-25E1-44B4-8F75-63363E06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BB5EA-DD17-4AD2-8A30-A3699178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1A03D-00C7-4E6E-86AD-C22935D4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7E88A-DA6D-43A1-88D8-172FA7CE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2FFB-E445-4359-BDCA-F2FAB785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36E4-8219-403B-AD3E-48BB1FD3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DF65-BEAA-4A71-B066-7FBD472E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66DE-346C-44A3-B526-2A7D9A88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0C81-B6CF-43A8-8468-ED45A547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CD84-AE91-4B8B-95AC-7784548F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2F53-8864-426F-85BD-730F44DE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AFEE-1FD2-469D-ABBC-9A01D863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20DA-EDE7-4849-9AC4-57B7EC43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B359-E375-49BB-9214-D82E4CE0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C409-DEB9-4B88-87AB-40DF4379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61C2-D9FC-46DE-8EB1-D49D8D3E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3804-1866-4C26-BD56-CF8F3863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EFA2-0734-47BB-BF9E-E2E1B9F9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55CA-00BA-4137-BF07-B448323F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A64A8-C37A-4578-A70B-19E95C3B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86738-9650-4D4A-A986-15BE36F3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15C43-1958-4919-B303-0BCD1851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3A2F2-86A4-4493-8F17-EFE9E8AD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5B929-4D82-4585-9FCB-E03CFDDA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8119-C07C-43B9-9F87-26B4B3CE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B0EF7-62B6-4FFF-987B-31762A45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3D796-E7B9-45CA-AE1D-5B256D0F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8212A-9EF1-49FD-A302-248723A7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33160-8780-4D2D-9274-D141EDB8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AE7C7-C2F6-4979-902B-90D5350D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4030C-F279-455E-8CA6-E6F7D7BD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C1B27-D3E4-4F27-8B43-9CAEB009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37A4B-E885-4F64-978F-D6A35D9DD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C0279-79AD-4A46-820B-2B16D082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48A7D-7EFF-4886-9C94-C0695499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A7FE-B313-4361-8D8F-1D54539C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8D96B-30C4-4033-8AC3-8BDF4B28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1A480-C08E-4D6D-B888-813B1356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09C7D-1701-45BC-88AF-508F4C1B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72F64-7CA7-4832-BB9F-1380C414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1EEB1-CC11-43CB-85D1-C043DF8F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77BDA-CA00-4A5E-8F19-C1530069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151C9-4E6B-4802-B3C4-62DEC824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DFFCC-601E-4292-A698-921F49DAD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EB9AA-D49A-49EA-828E-A2D3658A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56968-C424-4D8D-9E18-6E3BE3E4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00E-392C-4313-891B-685E704E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5B5EB-A63C-4925-9ED8-BA5BDBC2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817FE-A55F-443F-BC7B-EEDC104B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4DBBD-55D1-47B2-BBC5-A026F10C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31EFD-C07A-4DED-91CA-B88E55B9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6F7BE-2436-45C1-8C28-86A3F991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7F552-BEA4-4A84-BBA8-7DC9BCEA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F41BD-C6BD-4AF3-88C2-1D0403CE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7F270-C310-4FEA-95FB-4CBD595B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87837-32A8-4A10-B2D5-E571B632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F56A6-B991-47FD-8F9F-B7A97930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F57F-88C8-4254-B794-60F44C68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A5CB5-A082-44D4-AFCA-B92AC437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05A07-C518-4B22-96D5-6D3112464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50DB3-9BAB-4D56-86A7-3DC476DE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17F44-CA0D-4D27-BCEA-4ED0F02A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F6B72-B299-4B78-BB94-484FB730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81017-4D38-4BE8-A053-2BD643C0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7CDB6-6C6D-4EFE-9F64-54F3D550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5AE06-E136-4978-B999-9A1192B6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A76C2-D823-4A34-AC2C-9726C196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3AB9B-A4A1-4E29-B8EC-AE42D11F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385C-D8B4-4028-BF4E-6117D64E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3F5A0-4454-4065-AC2C-650F45FA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61438-F5D1-416E-A17E-FA21FC1B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39886-353B-4EB1-8EFE-D2D70EDD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EFD9C-F0F3-44E7-84E9-8810E0AF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880DF-278A-4166-905C-93F78831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35D8B-3B42-4701-860B-AF8662DE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C525C-6C14-4236-85DD-26C9FB3D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EAAB9-7A7B-4F7A-A95B-5258D318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D1617-4E42-48A4-803E-447B605C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86CBF-7933-43C9-92FF-D3052783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4C83-40B8-44F4-9BCA-FFBF2E86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366B2-70D1-4C6A-B28D-05BF4BF4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43ABC-C83A-4304-AD21-7FB122A8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8CCBE-2F64-4AF3-829A-330AC7D1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7AD79-5D4B-4EC3-9E72-DEAED2B5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D7544-BFE2-481D-BBE2-D6FF6A71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BE6C7-73F8-474B-B894-C742B469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13057-3B91-41BA-97AB-702081F7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8D345-D975-4073-A6AE-87B12CB8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774C6-C537-4AF2-A152-74E1F354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089E2-C528-40A2-AC46-56D9C2C5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1B1E-702E-4CBE-B671-C9917F2D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B91CC-2D23-4684-98F1-BF1FA14F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A344E-209B-4FDF-BBE8-49B6DFC8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539E9-BAEE-4855-BE88-E862FCA8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DE240-5F54-4325-AD54-5EAD6AB0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75AFB-8124-4DDD-8C2B-EC5A7D94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83D56-D728-48EF-85D1-BA9FE36E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05E7F-6643-4888-94A6-7559464E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222B8-37F2-4BAC-9703-D9AE016E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37BAE-2D50-4E95-A4D9-49B52712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2F9F5-F3A2-48A8-97D6-FBDF142C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AC04-EC77-4D06-B89C-CDE082E84521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AE44-7C3A-45BD-A79F-4A018F262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9CAF-89A0-4803-B6B6-21B595111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A0DF-8965-4B13-9C4F-23F99CEB9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5DD5-6328-4B63-8A19-0118995FB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DE13-4BF0-444C-8CC5-98F8D774E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F327-5FED-4E8E-9779-8C7D08F45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2F1D-515C-468D-92FD-77FFC3DE0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D21A-7E1C-41BC-A42D-698B69196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file:///tmp/home/.config/libreoffice/4/user/gallery/foarte%20bine.WAV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tmp/home/.config/libreoffice/4/user/gallery/foarte%20bine.WAV" TargetMode="External"/><Relationship Id="rId3" Type="http://schemas.openxmlformats.org/officeDocument/2006/relationships/hyperlink" Target="file:///tmp/home/.config/libreoffice/4/user/gallery/foarte%20bine.WAV" TargetMode="External"/><Relationship Id="rId4" Type="http://schemas.openxmlformats.org/officeDocument/2006/relationships/hyperlink" Target="file:///tmp/home/.config/libreoffice/4/user/gallery/foarte%20bine.WAV" TargetMode="External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file:///tmp/home/.config/libreoffice/4/user/gallery/foarte%20bine.WAV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file:///tmp/home/.config/libreoffice/4/user/gallery/foarte%20bine.WAV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file:///tmp/home/.config/libreoffice/4/user/gallery/foarte%20bine.WAV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tmp/home/.config/libreoffice/4/user/gallery/foarte%20bine.WAV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hyperlink" Target="file:///tmp/home/.config/libreoffice/4/user/gallery/foarte%20bine.WAV" TargetMode="External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foarte%20bine.WAV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Dreptunghi 1" descr=""/>
          <p:cNvPicPr/>
          <p:nvPr/>
        </p:nvPicPr>
        <p:blipFill>
          <a:blip r:embed="rId1"/>
          <a:stretch/>
        </p:blipFill>
        <p:spPr>
          <a:xfrm>
            <a:off x="579600" y="469800"/>
            <a:ext cx="7705440" cy="197496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3"/>
          <p:cNvSpPr/>
          <p:nvPr/>
        </p:nvSpPr>
        <p:spPr>
          <a:xfrm>
            <a:off x="457200" y="3429000"/>
            <a:ext cx="7689960" cy="2692440"/>
          </a:xfrm>
          <a:prstGeom prst="rect">
            <a:avLst/>
          </a:prstGeom>
          <a:solidFill>
            <a:srgbClr val="ff47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cc"/>
                </a:solidFill>
                <a:latin typeface="Arial"/>
              </a:rPr>
              <a:t>Politeţea este o monedă care îmbogăţeşte, nu pe cel ce o primeşte, ci pe cel ce o cheltuieş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5" descr="neuville_pictura2"/>
          <p:cNvPicPr/>
          <p:nvPr/>
        </p:nvPicPr>
        <p:blipFill>
          <a:blip r:embed="rId1"/>
          <a:stretch/>
        </p:blipFill>
        <p:spPr>
          <a:xfrm>
            <a:off x="2438280" y="0"/>
            <a:ext cx="3489480" cy="3886200"/>
          </a:xfrm>
          <a:prstGeom prst="rect">
            <a:avLst/>
          </a:prstGeom>
          <a:ln w="0">
            <a:noFill/>
          </a:ln>
        </p:spPr>
      </p:pic>
      <p:sp>
        <p:nvSpPr>
          <p:cNvPr id="443" name="CasetăText 2"/>
          <p:cNvSpPr/>
          <p:nvPr/>
        </p:nvSpPr>
        <p:spPr>
          <a:xfrm>
            <a:off x="646560" y="4038480"/>
            <a:ext cx="7905960" cy="4597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………………………….este profesorul meu de de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Buton acțiune: Particularizare 3"/>
          <p:cNvSpPr/>
          <p:nvPr/>
        </p:nvSpPr>
        <p:spPr>
          <a:xfrm>
            <a:off x="228600" y="5257800"/>
            <a:ext cx="2895480" cy="685800"/>
          </a:xfrm>
          <a:custGeom>
            <a:avLst/>
            <a:gdLst>
              <a:gd name="textAreaLeft" fmla="*/ 44280 w 2895480"/>
              <a:gd name="textAreaRight" fmla="*/ 2851200 w 2895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60" h="21600">
                <a:moveTo>
                  <a:pt x="0" y="0"/>
                </a:moveTo>
                <a:lnTo>
                  <a:pt x="91160" y="0"/>
                </a:lnTo>
                <a:lnTo>
                  <a:pt x="91160" y="21600"/>
                </a:lnTo>
                <a:lnTo>
                  <a:pt x="0" y="21600"/>
                </a:lnTo>
                <a:close/>
              </a:path>
              <a:path fill="lightenLess" w="91160" h="21600">
                <a:moveTo>
                  <a:pt x="0" y="0"/>
                </a:moveTo>
                <a:lnTo>
                  <a:pt x="91160" y="0"/>
                </a:lnTo>
                <a:lnTo>
                  <a:pt x="89760" y="1400"/>
                </a:lnTo>
                <a:lnTo>
                  <a:pt x="1400" y="1400"/>
                </a:lnTo>
                <a:close/>
              </a:path>
              <a:path fill="darken" w="91160" h="21600">
                <a:moveTo>
                  <a:pt x="91160" y="0"/>
                </a:moveTo>
                <a:lnTo>
                  <a:pt x="91160" y="21600"/>
                </a:lnTo>
                <a:lnTo>
                  <a:pt x="89760" y="20200"/>
                </a:lnTo>
                <a:lnTo>
                  <a:pt x="89760" y="1400"/>
                </a:lnTo>
                <a:close/>
              </a:path>
              <a:path fill="darkenLess" w="91160" h="21600">
                <a:moveTo>
                  <a:pt x="91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60" y="20200"/>
                </a:lnTo>
                <a:close/>
              </a:path>
              <a:path fill="lighten" w="91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voast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Buton acțiune: Particularizare 4"/>
          <p:cNvSpPr/>
          <p:nvPr/>
        </p:nvSpPr>
        <p:spPr>
          <a:xfrm>
            <a:off x="3581280" y="52578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ăria 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Buton acțiune: Particularizare 5"/>
          <p:cNvSpPr/>
          <p:nvPr/>
        </p:nvSpPr>
        <p:spPr>
          <a:xfrm>
            <a:off x="5410080" y="52578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9976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Buton acțiune: Particularizare 6">
            <a:hlinkClick r:id="rId2"/>
          </p:cNvPr>
          <p:cNvSpPr/>
          <p:nvPr/>
        </p:nvSpPr>
        <p:spPr>
          <a:xfrm>
            <a:off x="6934320" y="5257800"/>
            <a:ext cx="2057400" cy="685800"/>
          </a:xfrm>
          <a:custGeom>
            <a:avLst/>
            <a:gdLst>
              <a:gd name="textAreaLeft" fmla="*/ 44280 w 2057400"/>
              <a:gd name="textAreaRight" fmla="*/ 2013120 w 2057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4777" h="21600">
                <a:moveTo>
                  <a:pt x="0" y="0"/>
                </a:moveTo>
                <a:lnTo>
                  <a:pt x="64777" y="0"/>
                </a:lnTo>
                <a:lnTo>
                  <a:pt x="64777" y="21600"/>
                </a:lnTo>
                <a:lnTo>
                  <a:pt x="0" y="21600"/>
                </a:lnTo>
                <a:close/>
              </a:path>
              <a:path fill="lightenLess" w="64777" h="21600">
                <a:moveTo>
                  <a:pt x="0" y="0"/>
                </a:moveTo>
                <a:lnTo>
                  <a:pt x="64777" y="0"/>
                </a:lnTo>
                <a:lnTo>
                  <a:pt x="63377" y="1400"/>
                </a:lnTo>
                <a:lnTo>
                  <a:pt x="1400" y="1400"/>
                </a:lnTo>
                <a:close/>
              </a:path>
              <a:path fill="darken" w="64777" h="21600">
                <a:moveTo>
                  <a:pt x="64777" y="0"/>
                </a:moveTo>
                <a:lnTo>
                  <a:pt x="64777" y="21600"/>
                </a:lnTo>
                <a:lnTo>
                  <a:pt x="63377" y="20200"/>
                </a:lnTo>
                <a:lnTo>
                  <a:pt x="63377" y="1400"/>
                </a:lnTo>
                <a:close/>
              </a:path>
              <a:path fill="darkenLess" w="64777" h="21600">
                <a:moveTo>
                  <a:pt x="64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77" y="20200"/>
                </a:lnTo>
                <a:close/>
              </a:path>
              <a:path fill="lighten" w="64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3" descr="Reconstrucţia sălii tronului lui Ştefan cel Mare la Muzeul de istorie din Suceava"/>
          <p:cNvPicPr/>
          <p:nvPr/>
        </p:nvPicPr>
        <p:blipFill>
          <a:blip r:embed="rId1"/>
          <a:stretch/>
        </p:blipFill>
        <p:spPr>
          <a:xfrm>
            <a:off x="2286000" y="0"/>
            <a:ext cx="3962520" cy="36576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449" name="CasetăText 3"/>
          <p:cNvSpPr/>
          <p:nvPr/>
        </p:nvSpPr>
        <p:spPr>
          <a:xfrm>
            <a:off x="566640" y="3886200"/>
            <a:ext cx="7366320" cy="4597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……………………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, oastea este pregătită de lupt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Buton acțiune: Particularizare 4">
            <a:hlinkClick r:id="rId2"/>
          </p:cNvPr>
          <p:cNvSpPr/>
          <p:nvPr/>
        </p:nvSpPr>
        <p:spPr>
          <a:xfrm>
            <a:off x="6248520" y="44197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ăria 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Buton acțiune: Particularizare 5">
            <a:hlinkClick r:id="rId3"/>
          </p:cNvPr>
          <p:cNvSpPr/>
          <p:nvPr/>
        </p:nvSpPr>
        <p:spPr>
          <a:xfrm>
            <a:off x="6248520" y="5257800"/>
            <a:ext cx="2590560" cy="685800"/>
          </a:xfrm>
          <a:custGeom>
            <a:avLst/>
            <a:gdLst>
              <a:gd name="textAreaLeft" fmla="*/ 44280 w 2590560"/>
              <a:gd name="textAreaRight" fmla="*/ 2546280 w 2590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81561" h="21600">
                <a:moveTo>
                  <a:pt x="0" y="0"/>
                </a:moveTo>
                <a:lnTo>
                  <a:pt x="81561" y="0"/>
                </a:lnTo>
                <a:lnTo>
                  <a:pt x="81561" y="21600"/>
                </a:lnTo>
                <a:lnTo>
                  <a:pt x="0" y="21600"/>
                </a:lnTo>
                <a:close/>
              </a:path>
              <a:path fill="lightenLess" w="81561" h="21600">
                <a:moveTo>
                  <a:pt x="0" y="0"/>
                </a:moveTo>
                <a:lnTo>
                  <a:pt x="81561" y="0"/>
                </a:lnTo>
                <a:lnTo>
                  <a:pt x="80161" y="1400"/>
                </a:lnTo>
                <a:lnTo>
                  <a:pt x="1400" y="1400"/>
                </a:lnTo>
                <a:close/>
              </a:path>
              <a:path fill="darken" w="81561" h="21600">
                <a:moveTo>
                  <a:pt x="81561" y="0"/>
                </a:moveTo>
                <a:lnTo>
                  <a:pt x="81561" y="21600"/>
                </a:lnTo>
                <a:lnTo>
                  <a:pt x="80161" y="20200"/>
                </a:lnTo>
                <a:lnTo>
                  <a:pt x="80161" y="1400"/>
                </a:lnTo>
                <a:close/>
              </a:path>
              <a:path fill="darkenLess" w="81561" h="21600">
                <a:moveTo>
                  <a:pt x="815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161" y="20200"/>
                </a:lnTo>
                <a:close/>
              </a:path>
              <a:path fill="lighten" w="815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omnia voastr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Buton acțiune: Particularizare 6"/>
          <p:cNvSpPr/>
          <p:nvPr/>
        </p:nvSpPr>
        <p:spPr>
          <a:xfrm>
            <a:off x="228600" y="5867280"/>
            <a:ext cx="2895480" cy="685800"/>
          </a:xfrm>
          <a:custGeom>
            <a:avLst/>
            <a:gdLst>
              <a:gd name="textAreaLeft" fmla="*/ 44280 w 2895480"/>
              <a:gd name="textAreaRight" fmla="*/ 2851200 w 2895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60" h="21600">
                <a:moveTo>
                  <a:pt x="0" y="0"/>
                </a:moveTo>
                <a:lnTo>
                  <a:pt x="91160" y="0"/>
                </a:lnTo>
                <a:lnTo>
                  <a:pt x="91160" y="21600"/>
                </a:lnTo>
                <a:lnTo>
                  <a:pt x="0" y="21600"/>
                </a:lnTo>
                <a:close/>
              </a:path>
              <a:path fill="lightenLess" w="91160" h="21600">
                <a:moveTo>
                  <a:pt x="0" y="0"/>
                </a:moveTo>
                <a:lnTo>
                  <a:pt x="91160" y="0"/>
                </a:lnTo>
                <a:lnTo>
                  <a:pt x="89760" y="1400"/>
                </a:lnTo>
                <a:lnTo>
                  <a:pt x="1400" y="1400"/>
                </a:lnTo>
                <a:close/>
              </a:path>
              <a:path fill="darken" w="91160" h="21600">
                <a:moveTo>
                  <a:pt x="91160" y="0"/>
                </a:moveTo>
                <a:lnTo>
                  <a:pt x="91160" y="21600"/>
                </a:lnTo>
                <a:lnTo>
                  <a:pt x="89760" y="20200"/>
                </a:lnTo>
                <a:lnTo>
                  <a:pt x="89760" y="1400"/>
                </a:lnTo>
                <a:close/>
              </a:path>
              <a:path fill="darkenLess" w="91160" h="21600">
                <a:moveTo>
                  <a:pt x="91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60" y="20200"/>
                </a:lnTo>
                <a:close/>
              </a:path>
              <a:path fill="lighten" w="91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Buton acțiune: Particularizare 7"/>
          <p:cNvSpPr/>
          <p:nvPr/>
        </p:nvSpPr>
        <p:spPr>
          <a:xfrm>
            <a:off x="304920" y="4876920"/>
            <a:ext cx="2895480" cy="685800"/>
          </a:xfrm>
          <a:custGeom>
            <a:avLst/>
            <a:gdLst>
              <a:gd name="textAreaLeft" fmla="*/ 44280 w 2895480"/>
              <a:gd name="textAreaRight" fmla="*/ 2851200 w 2895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60" h="21600">
                <a:moveTo>
                  <a:pt x="0" y="0"/>
                </a:moveTo>
                <a:lnTo>
                  <a:pt x="91160" y="0"/>
                </a:lnTo>
                <a:lnTo>
                  <a:pt x="91160" y="21600"/>
                </a:lnTo>
                <a:lnTo>
                  <a:pt x="0" y="21600"/>
                </a:lnTo>
                <a:close/>
              </a:path>
              <a:path fill="lightenLess" w="91160" h="21600">
                <a:moveTo>
                  <a:pt x="0" y="0"/>
                </a:moveTo>
                <a:lnTo>
                  <a:pt x="91160" y="0"/>
                </a:lnTo>
                <a:lnTo>
                  <a:pt x="89760" y="1400"/>
                </a:lnTo>
                <a:lnTo>
                  <a:pt x="1400" y="1400"/>
                </a:lnTo>
                <a:close/>
              </a:path>
              <a:path fill="darken" w="91160" h="21600">
                <a:moveTo>
                  <a:pt x="91160" y="0"/>
                </a:moveTo>
                <a:lnTo>
                  <a:pt x="91160" y="21600"/>
                </a:lnTo>
                <a:lnTo>
                  <a:pt x="89760" y="20200"/>
                </a:lnTo>
                <a:lnTo>
                  <a:pt x="89760" y="1400"/>
                </a:lnTo>
                <a:close/>
              </a:path>
              <a:path fill="darkenLess" w="91160" h="21600">
                <a:moveTo>
                  <a:pt x="91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60" y="20200"/>
                </a:lnTo>
                <a:close/>
              </a:path>
              <a:path fill="lighten" w="91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voast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Buton acțiune: Particularizare 8"/>
          <p:cNvSpPr/>
          <p:nvPr/>
        </p:nvSpPr>
        <p:spPr>
          <a:xfrm>
            <a:off x="3657600" y="510552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9976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a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Buton acțiune: Particularizare 9"/>
          <p:cNvSpPr/>
          <p:nvPr/>
        </p:nvSpPr>
        <p:spPr>
          <a:xfrm>
            <a:off x="3657600" y="601992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9976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ătăluţ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Buton acțiune: Particularizare 10">
            <a:hlinkClick r:id="rId4"/>
          </p:cNvPr>
          <p:cNvSpPr/>
          <p:nvPr/>
        </p:nvSpPr>
        <p:spPr>
          <a:xfrm>
            <a:off x="6248520" y="6172200"/>
            <a:ext cx="2057400" cy="685800"/>
          </a:xfrm>
          <a:custGeom>
            <a:avLst/>
            <a:gdLst>
              <a:gd name="textAreaLeft" fmla="*/ 44280 w 2057400"/>
              <a:gd name="textAreaRight" fmla="*/ 2013120 w 2057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4777" h="21600">
                <a:moveTo>
                  <a:pt x="0" y="0"/>
                </a:moveTo>
                <a:lnTo>
                  <a:pt x="64777" y="0"/>
                </a:lnTo>
                <a:lnTo>
                  <a:pt x="64777" y="21600"/>
                </a:lnTo>
                <a:lnTo>
                  <a:pt x="0" y="21600"/>
                </a:lnTo>
                <a:close/>
              </a:path>
              <a:path fill="lightenLess" w="64777" h="21600">
                <a:moveTo>
                  <a:pt x="0" y="0"/>
                </a:moveTo>
                <a:lnTo>
                  <a:pt x="64777" y="0"/>
                </a:lnTo>
                <a:lnTo>
                  <a:pt x="63377" y="1400"/>
                </a:lnTo>
                <a:lnTo>
                  <a:pt x="1400" y="1400"/>
                </a:lnTo>
                <a:close/>
              </a:path>
              <a:path fill="darken" w="64777" h="21600">
                <a:moveTo>
                  <a:pt x="64777" y="0"/>
                </a:moveTo>
                <a:lnTo>
                  <a:pt x="64777" y="21600"/>
                </a:lnTo>
                <a:lnTo>
                  <a:pt x="63377" y="20200"/>
                </a:lnTo>
                <a:lnTo>
                  <a:pt x="63377" y="1400"/>
                </a:lnTo>
                <a:close/>
              </a:path>
              <a:path fill="darkenLess" w="64777" h="21600">
                <a:moveTo>
                  <a:pt x="64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77" y="20200"/>
                </a:lnTo>
                <a:close/>
              </a:path>
              <a:path fill="lighten" w="64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 </a:t>
            </a: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Înălţimea t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7" descr="pediatru_maxim"/>
          <p:cNvPicPr/>
          <p:nvPr/>
        </p:nvPicPr>
        <p:blipFill>
          <a:blip r:embed="rId1"/>
          <a:stretch/>
        </p:blipFill>
        <p:spPr>
          <a:xfrm>
            <a:off x="2209680" y="0"/>
            <a:ext cx="3700440" cy="4495680"/>
          </a:xfrm>
          <a:prstGeom prst="rect">
            <a:avLst/>
          </a:prstGeom>
          <a:ln w="0">
            <a:noFill/>
          </a:ln>
        </p:spPr>
      </p:pic>
      <p:sp>
        <p:nvSpPr>
          <p:cNvPr id="458" name="CasetăText 2"/>
          <p:cNvSpPr/>
          <p:nvPr/>
        </p:nvSpPr>
        <p:spPr>
          <a:xfrm>
            <a:off x="793800" y="4800600"/>
            <a:ext cx="8150040" cy="459720"/>
          </a:xfrm>
          <a:prstGeom prst="rect">
            <a:avLst/>
          </a:prstGeom>
          <a:solidFill>
            <a:srgbClr val="16e9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Datorită …………………..mă voi vindeca în curân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Buton acțiune: Particularizare 3"/>
          <p:cNvSpPr/>
          <p:nvPr/>
        </p:nvSpPr>
        <p:spPr>
          <a:xfrm>
            <a:off x="380880" y="563868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9976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a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Buton acțiune: Particularizare 5">
            <a:hlinkClick r:id="rId2"/>
          </p:cNvPr>
          <p:cNvSpPr/>
          <p:nvPr/>
        </p:nvSpPr>
        <p:spPr>
          <a:xfrm>
            <a:off x="2819520" y="5638680"/>
            <a:ext cx="2895480" cy="685800"/>
          </a:xfrm>
          <a:custGeom>
            <a:avLst/>
            <a:gdLst>
              <a:gd name="textAreaLeft" fmla="*/ 44280 w 2895480"/>
              <a:gd name="textAreaRight" fmla="*/ 2851200 w 2895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60" h="21600">
                <a:moveTo>
                  <a:pt x="0" y="0"/>
                </a:moveTo>
                <a:lnTo>
                  <a:pt x="91160" y="0"/>
                </a:lnTo>
                <a:lnTo>
                  <a:pt x="91160" y="21600"/>
                </a:lnTo>
                <a:lnTo>
                  <a:pt x="0" y="21600"/>
                </a:lnTo>
                <a:close/>
              </a:path>
              <a:path fill="lightenLess" w="91160" h="21600">
                <a:moveTo>
                  <a:pt x="0" y="0"/>
                </a:moveTo>
                <a:lnTo>
                  <a:pt x="91160" y="0"/>
                </a:lnTo>
                <a:lnTo>
                  <a:pt x="89760" y="1400"/>
                </a:lnTo>
                <a:lnTo>
                  <a:pt x="1400" y="1400"/>
                </a:lnTo>
                <a:close/>
              </a:path>
              <a:path fill="darken" w="91160" h="21600">
                <a:moveTo>
                  <a:pt x="91160" y="0"/>
                </a:moveTo>
                <a:lnTo>
                  <a:pt x="91160" y="21600"/>
                </a:lnTo>
                <a:lnTo>
                  <a:pt x="89760" y="20200"/>
                </a:lnTo>
                <a:lnTo>
                  <a:pt x="89760" y="1400"/>
                </a:lnTo>
                <a:close/>
              </a:path>
              <a:path fill="darkenLess" w="91160" h="21600">
                <a:moveTo>
                  <a:pt x="91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60" y="20200"/>
                </a:lnTo>
                <a:close/>
              </a:path>
              <a:path fill="lighten" w="91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voast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Dreptunghi 8"/>
          <p:cNvSpPr/>
          <p:nvPr/>
        </p:nvSpPr>
        <p:spPr>
          <a:xfrm>
            <a:off x="990720" y="5029200"/>
            <a:ext cx="380880" cy="76320"/>
          </a:xfrm>
          <a:prstGeom prst="rect">
            <a:avLst/>
          </a:prstGeom>
          <a:solidFill>
            <a:srgbClr val="008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Buton acțiune: Particularizare 9"/>
          <p:cNvSpPr/>
          <p:nvPr/>
        </p:nvSpPr>
        <p:spPr>
          <a:xfrm>
            <a:off x="6248520" y="5638680"/>
            <a:ext cx="2895480" cy="685800"/>
          </a:xfrm>
          <a:custGeom>
            <a:avLst/>
            <a:gdLst>
              <a:gd name="textAreaLeft" fmla="*/ 44280 w 2895480"/>
              <a:gd name="textAreaRight" fmla="*/ 2851200 w 2895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60" h="21600">
                <a:moveTo>
                  <a:pt x="0" y="0"/>
                </a:moveTo>
                <a:lnTo>
                  <a:pt x="91160" y="0"/>
                </a:lnTo>
                <a:lnTo>
                  <a:pt x="91160" y="21600"/>
                </a:lnTo>
                <a:lnTo>
                  <a:pt x="0" y="21600"/>
                </a:lnTo>
                <a:close/>
              </a:path>
              <a:path fill="lightenLess" w="91160" h="21600">
                <a:moveTo>
                  <a:pt x="0" y="0"/>
                </a:moveTo>
                <a:lnTo>
                  <a:pt x="91160" y="0"/>
                </a:lnTo>
                <a:lnTo>
                  <a:pt x="89760" y="1400"/>
                </a:lnTo>
                <a:lnTo>
                  <a:pt x="1400" y="1400"/>
                </a:lnTo>
                <a:close/>
              </a:path>
              <a:path fill="darken" w="91160" h="21600">
                <a:moveTo>
                  <a:pt x="91160" y="0"/>
                </a:moveTo>
                <a:lnTo>
                  <a:pt x="91160" y="21600"/>
                </a:lnTo>
                <a:lnTo>
                  <a:pt x="89760" y="20200"/>
                </a:lnTo>
                <a:lnTo>
                  <a:pt x="89760" y="1400"/>
                </a:lnTo>
                <a:close/>
              </a:path>
              <a:path fill="darkenLess" w="91160" h="21600">
                <a:moveTo>
                  <a:pt x="91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60" y="20200"/>
                </a:lnTo>
                <a:close/>
              </a:path>
              <a:path fill="lighten" w="91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Luminăţiei voas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768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Omul trebuie să trăiască nu după cum îi place, ci după cum îi este îngădui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9" descr="livres%20(18)"/>
          <p:cNvPicPr/>
          <p:nvPr/>
        </p:nvPicPr>
        <p:blipFill>
          <a:blip r:embed="rId1"/>
          <a:stretch/>
        </p:blipFill>
        <p:spPr>
          <a:xfrm>
            <a:off x="3276720" y="3657600"/>
            <a:ext cx="2374920" cy="2055960"/>
          </a:xfrm>
          <a:prstGeom prst="rect">
            <a:avLst/>
          </a:prstGeom>
          <a:ln w="0">
            <a:noFill/>
          </a:ln>
        </p:spPr>
      </p:pic>
      <p:sp>
        <p:nvSpPr>
          <p:cNvPr id="465" name="CasetăText 5"/>
          <p:cNvSpPr/>
          <p:nvPr/>
        </p:nvSpPr>
        <p:spPr>
          <a:xfrm>
            <a:off x="1235520" y="6172200"/>
            <a:ext cx="554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IOARA VIYITIU+ SAM “ION PETROVICI”, TECU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1c1c1c"/>
                </a:solidFill>
                <a:latin typeface="Arial"/>
              </a:rPr>
              <a:t>Ne amintim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97240" y="1420920"/>
            <a:ext cx="6302160" cy="1928160"/>
          </a:xfrm>
          <a:prstGeom prst="rect">
            <a:avLst/>
          </a:prstGeom>
          <a:solidFill>
            <a:srgbClr val="e3fbf1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53753" dir="2700000" blurRad="0" rotWithShape="0">
              <a:srgbClr val="4d4d4d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ronumele personal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este PARTEA DE VORBIRE CARE 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TINE LOCUL UNUI NUME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          ( unui substantiv )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0" y="4724280"/>
            <a:ext cx="7620120" cy="1828800"/>
          </a:xfrm>
          <a:prstGeom prst="flowChartOnlineStorag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825"/>
              </a:spcBef>
              <a:buClr>
                <a:srgbClr val="b8f6d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300" spc="-1" strike="noStrike">
                <a:solidFill>
                  <a:srgbClr val="000000"/>
                </a:solidFill>
                <a:latin typeface="Arial"/>
              </a:rPr>
              <a:t>Dânsul / dânsa / dânsul / dânsel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300" spc="-1" strike="noStrike">
                <a:solidFill>
                  <a:srgbClr val="000000"/>
                </a:solidFill>
                <a:latin typeface="Arial"/>
              </a:rPr>
              <a:t>nu sunt pronume de politeţe 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WordArt 15"/>
          <p:cNvSpPr txBox="1"/>
          <p:nvPr/>
        </p:nvSpPr>
        <p:spPr>
          <a:xfrm>
            <a:off x="380880" y="3352680"/>
            <a:ext cx="8136000" cy="1028880"/>
          </a:xfrm>
          <a:prstGeom prst="rect">
            <a:avLst/>
          </a:prstGeom>
        </p:spPr>
        <p:txBody>
          <a:bodyPr wrap="none" lIns="90000" rIns="90000" tIns="46800" bIns="46800" anchor="t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cap="rnd" w="936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ff0000">
                    <a:alpha val="71000"/>
                  </a:srgbClr>
                </a:solidFill>
                <a:latin typeface="Arial"/>
              </a:rPr>
              <a:t>Respectul şi politeţea </a:t>
            </a:r>
            <a:endParaRPr b="1" lang="en-US" sz="5400" spc="1" strike="noStrike">
              <a:ln cap="rnd" w="936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ff0000">
                  <a:alpha val="7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82" name="WordArt 19"/>
          <p:cNvSpPr txBox="1"/>
          <p:nvPr/>
        </p:nvSpPr>
        <p:spPr>
          <a:xfrm>
            <a:off x="1523880" y="4800600"/>
            <a:ext cx="5761080" cy="523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53000"/>
                  </a:srgbClr>
                </a:solidFill>
                <a:latin typeface="Times New Roman"/>
              </a:rPr>
              <a:t>sunt de au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53000"/>
                </a:srgbClr>
              </a:solidFill>
              <a:latin typeface="Times New Roman"/>
              <a:ea typeface="Times New Roman"/>
            </a:endParaRPr>
          </a:p>
        </p:txBody>
      </p:sp>
      <p:pic>
        <p:nvPicPr>
          <p:cNvPr id="383" name="Picture 8" descr="baiat scrie"/>
          <p:cNvPicPr/>
          <p:nvPr/>
        </p:nvPicPr>
        <p:blipFill>
          <a:blip r:embed="rId1"/>
          <a:stretch/>
        </p:blipFill>
        <p:spPr>
          <a:xfrm>
            <a:off x="2057400" y="228600"/>
            <a:ext cx="345924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reptunghi 32"/>
          <p:cNvSpPr/>
          <p:nvPr/>
        </p:nvSpPr>
        <p:spPr>
          <a:xfrm>
            <a:off x="0" y="1143000"/>
            <a:ext cx="3048120" cy="5715000"/>
          </a:xfrm>
          <a:prstGeom prst="rect">
            <a:avLst/>
          </a:prstGeom>
          <a:solidFill>
            <a:srgbClr val="ff33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reptunghi 26"/>
          <p:cNvSpPr/>
          <p:nvPr/>
        </p:nvSpPr>
        <p:spPr>
          <a:xfrm>
            <a:off x="6019920" y="0"/>
            <a:ext cx="3124080" cy="6858000"/>
          </a:xfrm>
          <a:prstGeom prst="rect">
            <a:avLst/>
          </a:prstGeom>
          <a:solidFill>
            <a:srgbClr val="1aff1a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Dreptunghi 22"/>
          <p:cNvSpPr/>
          <p:nvPr/>
        </p:nvSpPr>
        <p:spPr>
          <a:xfrm>
            <a:off x="3352680" y="533520"/>
            <a:ext cx="2210040" cy="6095880"/>
          </a:xfrm>
          <a:prstGeom prst="rect">
            <a:avLst/>
          </a:prstGeom>
          <a:solidFill>
            <a:srgbClr val="f1fdf8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Buton acțiune: Particularizare 1"/>
          <p:cNvSpPr/>
          <p:nvPr/>
        </p:nvSpPr>
        <p:spPr>
          <a:xfrm>
            <a:off x="6248520" y="25909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ăria 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Buton acțiune: Particularizare 2"/>
          <p:cNvSpPr/>
          <p:nvPr/>
        </p:nvSpPr>
        <p:spPr>
          <a:xfrm>
            <a:off x="6248520" y="3429000"/>
            <a:ext cx="2590560" cy="685800"/>
          </a:xfrm>
          <a:custGeom>
            <a:avLst/>
            <a:gdLst>
              <a:gd name="textAreaLeft" fmla="*/ 44280 w 2590560"/>
              <a:gd name="textAreaRight" fmla="*/ 2546280 w 2590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81561" h="21600">
                <a:moveTo>
                  <a:pt x="0" y="0"/>
                </a:moveTo>
                <a:lnTo>
                  <a:pt x="81561" y="0"/>
                </a:lnTo>
                <a:lnTo>
                  <a:pt x="81561" y="21600"/>
                </a:lnTo>
                <a:lnTo>
                  <a:pt x="0" y="21600"/>
                </a:lnTo>
                <a:close/>
              </a:path>
              <a:path fill="lightenLess" w="81561" h="21600">
                <a:moveTo>
                  <a:pt x="0" y="0"/>
                </a:moveTo>
                <a:lnTo>
                  <a:pt x="81561" y="0"/>
                </a:lnTo>
                <a:lnTo>
                  <a:pt x="80161" y="1400"/>
                </a:lnTo>
                <a:lnTo>
                  <a:pt x="1400" y="1400"/>
                </a:lnTo>
                <a:close/>
              </a:path>
              <a:path fill="darken" w="81561" h="21600">
                <a:moveTo>
                  <a:pt x="81561" y="0"/>
                </a:moveTo>
                <a:lnTo>
                  <a:pt x="81561" y="21600"/>
                </a:lnTo>
                <a:lnTo>
                  <a:pt x="80161" y="20200"/>
                </a:lnTo>
                <a:lnTo>
                  <a:pt x="80161" y="1400"/>
                </a:lnTo>
                <a:close/>
              </a:path>
              <a:path fill="darkenLess" w="81561" h="21600">
                <a:moveTo>
                  <a:pt x="815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161" y="20200"/>
                </a:lnTo>
                <a:close/>
              </a:path>
              <a:path fill="lighten" w="815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omnia voastr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Buton acțiune: Particularizare 8"/>
          <p:cNvSpPr/>
          <p:nvPr/>
        </p:nvSpPr>
        <p:spPr>
          <a:xfrm>
            <a:off x="6248520" y="914400"/>
            <a:ext cx="1676160" cy="685800"/>
          </a:xfrm>
          <a:custGeom>
            <a:avLst/>
            <a:gdLst>
              <a:gd name="textAreaLeft" fmla="*/ 44280 w 1676160"/>
              <a:gd name="textAreaRight" fmla="*/ 1631880 w 1676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76" h="21600">
                <a:moveTo>
                  <a:pt x="0" y="0"/>
                </a:moveTo>
                <a:lnTo>
                  <a:pt x="52776" y="0"/>
                </a:lnTo>
                <a:lnTo>
                  <a:pt x="52776" y="21600"/>
                </a:lnTo>
                <a:lnTo>
                  <a:pt x="0" y="21600"/>
                </a:lnTo>
                <a:close/>
              </a:path>
              <a:path fill="lightenLess" w="52776" h="21600">
                <a:moveTo>
                  <a:pt x="0" y="0"/>
                </a:moveTo>
                <a:lnTo>
                  <a:pt x="52776" y="0"/>
                </a:lnTo>
                <a:lnTo>
                  <a:pt x="51376" y="1400"/>
                </a:lnTo>
                <a:lnTo>
                  <a:pt x="1400" y="1400"/>
                </a:lnTo>
                <a:close/>
              </a:path>
              <a:path fill="darken" w="52776" h="21600">
                <a:moveTo>
                  <a:pt x="52776" y="0"/>
                </a:moveTo>
                <a:lnTo>
                  <a:pt x="52776" y="21600"/>
                </a:lnTo>
                <a:lnTo>
                  <a:pt x="51376" y="20200"/>
                </a:lnTo>
                <a:lnTo>
                  <a:pt x="51376" y="1400"/>
                </a:lnTo>
                <a:close/>
              </a:path>
              <a:path fill="darkenLess" w="52776" h="21600">
                <a:moveTo>
                  <a:pt x="5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76" y="20200"/>
                </a:lnTo>
                <a:close/>
              </a:path>
              <a:path fill="lighten" w="5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omnia 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Buton acțiune: Particularizare 10"/>
          <p:cNvSpPr/>
          <p:nvPr/>
        </p:nvSpPr>
        <p:spPr>
          <a:xfrm>
            <a:off x="0" y="6172200"/>
            <a:ext cx="2895480" cy="685800"/>
          </a:xfrm>
          <a:custGeom>
            <a:avLst/>
            <a:gdLst>
              <a:gd name="textAreaLeft" fmla="*/ 44280 w 2895480"/>
              <a:gd name="textAreaRight" fmla="*/ 2851200 w 2895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60" h="21600">
                <a:moveTo>
                  <a:pt x="0" y="0"/>
                </a:moveTo>
                <a:lnTo>
                  <a:pt x="91160" y="0"/>
                </a:lnTo>
                <a:lnTo>
                  <a:pt x="91160" y="21600"/>
                </a:lnTo>
                <a:lnTo>
                  <a:pt x="0" y="21600"/>
                </a:lnTo>
                <a:close/>
              </a:path>
              <a:path fill="lightenLess" w="91160" h="21600">
                <a:moveTo>
                  <a:pt x="0" y="0"/>
                </a:moveTo>
                <a:lnTo>
                  <a:pt x="91160" y="0"/>
                </a:lnTo>
                <a:lnTo>
                  <a:pt x="89760" y="1400"/>
                </a:lnTo>
                <a:lnTo>
                  <a:pt x="1400" y="1400"/>
                </a:lnTo>
                <a:close/>
              </a:path>
              <a:path fill="darken" w="91160" h="21600">
                <a:moveTo>
                  <a:pt x="91160" y="0"/>
                </a:moveTo>
                <a:lnTo>
                  <a:pt x="91160" y="21600"/>
                </a:lnTo>
                <a:lnTo>
                  <a:pt x="89760" y="20200"/>
                </a:lnTo>
                <a:lnTo>
                  <a:pt x="89760" y="1400"/>
                </a:lnTo>
                <a:close/>
              </a:path>
              <a:path fill="darkenLess" w="91160" h="21600">
                <a:moveTo>
                  <a:pt x="91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60" y="20200"/>
                </a:lnTo>
                <a:close/>
              </a:path>
              <a:path fill="lighten" w="91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Buton acțiune: Particularizare 11"/>
          <p:cNvSpPr/>
          <p:nvPr/>
        </p:nvSpPr>
        <p:spPr>
          <a:xfrm>
            <a:off x="0" y="4114800"/>
            <a:ext cx="2895480" cy="685800"/>
          </a:xfrm>
          <a:custGeom>
            <a:avLst/>
            <a:gdLst>
              <a:gd name="textAreaLeft" fmla="*/ 44280 w 2895480"/>
              <a:gd name="textAreaRight" fmla="*/ 2851200 w 2895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60" h="21600">
                <a:moveTo>
                  <a:pt x="0" y="0"/>
                </a:moveTo>
                <a:lnTo>
                  <a:pt x="91160" y="0"/>
                </a:lnTo>
                <a:lnTo>
                  <a:pt x="91160" y="21600"/>
                </a:lnTo>
                <a:lnTo>
                  <a:pt x="0" y="21600"/>
                </a:lnTo>
                <a:close/>
              </a:path>
              <a:path fill="lightenLess" w="91160" h="21600">
                <a:moveTo>
                  <a:pt x="0" y="0"/>
                </a:moveTo>
                <a:lnTo>
                  <a:pt x="91160" y="0"/>
                </a:lnTo>
                <a:lnTo>
                  <a:pt x="89760" y="1400"/>
                </a:lnTo>
                <a:lnTo>
                  <a:pt x="1400" y="1400"/>
                </a:lnTo>
                <a:close/>
              </a:path>
              <a:path fill="darken" w="91160" h="21600">
                <a:moveTo>
                  <a:pt x="91160" y="0"/>
                </a:moveTo>
                <a:lnTo>
                  <a:pt x="91160" y="21600"/>
                </a:lnTo>
                <a:lnTo>
                  <a:pt x="89760" y="20200"/>
                </a:lnTo>
                <a:lnTo>
                  <a:pt x="89760" y="1400"/>
                </a:lnTo>
                <a:close/>
              </a:path>
              <a:path fill="darkenLess" w="91160" h="21600">
                <a:moveTo>
                  <a:pt x="91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60" y="20200"/>
                </a:lnTo>
                <a:close/>
              </a:path>
              <a:path fill="lighten" w="91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Buton acțiune: Particularizare 12"/>
          <p:cNvSpPr/>
          <p:nvPr/>
        </p:nvSpPr>
        <p:spPr>
          <a:xfrm>
            <a:off x="0" y="5181480"/>
            <a:ext cx="2057400" cy="685800"/>
          </a:xfrm>
          <a:custGeom>
            <a:avLst/>
            <a:gdLst>
              <a:gd name="textAreaLeft" fmla="*/ 44280 w 2057400"/>
              <a:gd name="textAreaRight" fmla="*/ 2013120 w 2057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4777" h="21600">
                <a:moveTo>
                  <a:pt x="0" y="0"/>
                </a:moveTo>
                <a:lnTo>
                  <a:pt x="64777" y="0"/>
                </a:lnTo>
                <a:lnTo>
                  <a:pt x="64777" y="21600"/>
                </a:lnTo>
                <a:lnTo>
                  <a:pt x="0" y="21600"/>
                </a:lnTo>
                <a:close/>
              </a:path>
              <a:path fill="lightenLess" w="64777" h="21600">
                <a:moveTo>
                  <a:pt x="0" y="0"/>
                </a:moveTo>
                <a:lnTo>
                  <a:pt x="64777" y="0"/>
                </a:lnTo>
                <a:lnTo>
                  <a:pt x="63377" y="1400"/>
                </a:lnTo>
                <a:lnTo>
                  <a:pt x="1400" y="1400"/>
                </a:lnTo>
                <a:close/>
              </a:path>
              <a:path fill="darken" w="64777" h="21600">
                <a:moveTo>
                  <a:pt x="64777" y="0"/>
                </a:moveTo>
                <a:lnTo>
                  <a:pt x="64777" y="21600"/>
                </a:lnTo>
                <a:lnTo>
                  <a:pt x="63377" y="20200"/>
                </a:lnTo>
                <a:lnTo>
                  <a:pt x="63377" y="1400"/>
                </a:lnTo>
                <a:close/>
              </a:path>
              <a:path fill="darkenLess" w="64777" h="21600">
                <a:moveTo>
                  <a:pt x="64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77" y="20200"/>
                </a:lnTo>
                <a:close/>
              </a:path>
              <a:path fill="lighten" w="64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Buton acțiune: Particularizare 13"/>
          <p:cNvSpPr/>
          <p:nvPr/>
        </p:nvSpPr>
        <p:spPr>
          <a:xfrm>
            <a:off x="0" y="3200400"/>
            <a:ext cx="2895480" cy="685800"/>
          </a:xfrm>
          <a:custGeom>
            <a:avLst/>
            <a:gdLst>
              <a:gd name="textAreaLeft" fmla="*/ 44280 w 2895480"/>
              <a:gd name="textAreaRight" fmla="*/ 2851200 w 2895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60" h="21600">
                <a:moveTo>
                  <a:pt x="0" y="0"/>
                </a:moveTo>
                <a:lnTo>
                  <a:pt x="91160" y="0"/>
                </a:lnTo>
                <a:lnTo>
                  <a:pt x="91160" y="21600"/>
                </a:lnTo>
                <a:lnTo>
                  <a:pt x="0" y="21600"/>
                </a:lnTo>
                <a:close/>
              </a:path>
              <a:path fill="lightenLess" w="91160" h="21600">
                <a:moveTo>
                  <a:pt x="0" y="0"/>
                </a:moveTo>
                <a:lnTo>
                  <a:pt x="91160" y="0"/>
                </a:lnTo>
                <a:lnTo>
                  <a:pt x="89760" y="1400"/>
                </a:lnTo>
                <a:lnTo>
                  <a:pt x="1400" y="1400"/>
                </a:lnTo>
                <a:close/>
              </a:path>
              <a:path fill="darken" w="91160" h="21600">
                <a:moveTo>
                  <a:pt x="91160" y="0"/>
                </a:moveTo>
                <a:lnTo>
                  <a:pt x="91160" y="21600"/>
                </a:lnTo>
                <a:lnTo>
                  <a:pt x="89760" y="20200"/>
                </a:lnTo>
                <a:lnTo>
                  <a:pt x="89760" y="1400"/>
                </a:lnTo>
                <a:close/>
              </a:path>
              <a:path fill="darkenLess" w="91160" h="21600">
                <a:moveTo>
                  <a:pt x="91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60" y="20200"/>
                </a:lnTo>
                <a:close/>
              </a:path>
              <a:path fill="lighten" w="91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voast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Buton acțiune: Particularizare 14"/>
          <p:cNvSpPr/>
          <p:nvPr/>
        </p:nvSpPr>
        <p:spPr>
          <a:xfrm>
            <a:off x="0" y="2286000"/>
            <a:ext cx="1981080" cy="685800"/>
          </a:xfrm>
          <a:custGeom>
            <a:avLst/>
            <a:gdLst>
              <a:gd name="textAreaLeft" fmla="*/ 44280 w 1981080"/>
              <a:gd name="textAreaRight" fmla="*/ 1936800 w 1981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2375" h="21600">
                <a:moveTo>
                  <a:pt x="0" y="0"/>
                </a:moveTo>
                <a:lnTo>
                  <a:pt x="62375" y="0"/>
                </a:lnTo>
                <a:lnTo>
                  <a:pt x="62375" y="21600"/>
                </a:lnTo>
                <a:lnTo>
                  <a:pt x="0" y="21600"/>
                </a:lnTo>
                <a:close/>
              </a:path>
              <a:path fill="lightenLess" w="62375" h="21600">
                <a:moveTo>
                  <a:pt x="0" y="0"/>
                </a:moveTo>
                <a:lnTo>
                  <a:pt x="62375" y="0"/>
                </a:lnTo>
                <a:lnTo>
                  <a:pt x="60975" y="1400"/>
                </a:lnTo>
                <a:lnTo>
                  <a:pt x="1400" y="1400"/>
                </a:lnTo>
                <a:close/>
              </a:path>
              <a:path fill="darken" w="62375" h="21600">
                <a:moveTo>
                  <a:pt x="62375" y="0"/>
                </a:moveTo>
                <a:lnTo>
                  <a:pt x="62375" y="21600"/>
                </a:lnTo>
                <a:lnTo>
                  <a:pt x="60975" y="20200"/>
                </a:lnTo>
                <a:lnTo>
                  <a:pt x="60975" y="1400"/>
                </a:lnTo>
                <a:close/>
              </a:path>
              <a:path fill="darkenLess" w="62375" h="21600">
                <a:moveTo>
                  <a:pt x="6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975" y="20200"/>
                </a:lnTo>
                <a:close/>
              </a:path>
              <a:path fill="lighten" w="6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Buton acțiune: Particularizare 15"/>
          <p:cNvSpPr/>
          <p:nvPr/>
        </p:nvSpPr>
        <p:spPr>
          <a:xfrm>
            <a:off x="3657600" y="36576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9976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a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Buton acțiune: Particularizare 16"/>
          <p:cNvSpPr/>
          <p:nvPr/>
        </p:nvSpPr>
        <p:spPr>
          <a:xfrm>
            <a:off x="3657600" y="457200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9976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ătăluţ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Buton acțiune: Particularizare 17"/>
          <p:cNvSpPr/>
          <p:nvPr/>
        </p:nvSpPr>
        <p:spPr>
          <a:xfrm>
            <a:off x="3657600" y="548640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9976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ătăl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Buton acțiune: Particularizare 18"/>
          <p:cNvSpPr/>
          <p:nvPr/>
        </p:nvSpPr>
        <p:spPr>
          <a:xfrm>
            <a:off x="3657600" y="175248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9976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Buton acțiune: Particularizare 19"/>
          <p:cNvSpPr/>
          <p:nvPr/>
        </p:nvSpPr>
        <p:spPr>
          <a:xfrm>
            <a:off x="365760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9976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tăl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Buton acțiune: Particularizare 23"/>
          <p:cNvSpPr/>
          <p:nvPr/>
        </p:nvSpPr>
        <p:spPr>
          <a:xfrm>
            <a:off x="6248520" y="5181480"/>
            <a:ext cx="2895480" cy="685800"/>
          </a:xfrm>
          <a:custGeom>
            <a:avLst/>
            <a:gdLst>
              <a:gd name="textAreaLeft" fmla="*/ 44280 w 2895480"/>
              <a:gd name="textAreaRight" fmla="*/ 2851200 w 2895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60" h="21600">
                <a:moveTo>
                  <a:pt x="0" y="0"/>
                </a:moveTo>
                <a:lnTo>
                  <a:pt x="91160" y="0"/>
                </a:lnTo>
                <a:lnTo>
                  <a:pt x="91160" y="21600"/>
                </a:lnTo>
                <a:lnTo>
                  <a:pt x="0" y="21600"/>
                </a:lnTo>
                <a:close/>
              </a:path>
              <a:path fill="lightenLess" w="91160" h="21600">
                <a:moveTo>
                  <a:pt x="0" y="0"/>
                </a:moveTo>
                <a:lnTo>
                  <a:pt x="91160" y="0"/>
                </a:lnTo>
                <a:lnTo>
                  <a:pt x="89760" y="1400"/>
                </a:lnTo>
                <a:lnTo>
                  <a:pt x="1400" y="1400"/>
                </a:lnTo>
                <a:close/>
              </a:path>
              <a:path fill="darken" w="91160" h="21600">
                <a:moveTo>
                  <a:pt x="91160" y="0"/>
                </a:moveTo>
                <a:lnTo>
                  <a:pt x="91160" y="21600"/>
                </a:lnTo>
                <a:lnTo>
                  <a:pt x="89760" y="20200"/>
                </a:lnTo>
                <a:lnTo>
                  <a:pt x="89760" y="1400"/>
                </a:lnTo>
                <a:close/>
              </a:path>
              <a:path fill="darkenLess" w="91160" h="21600">
                <a:moveTo>
                  <a:pt x="91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60" y="20200"/>
                </a:lnTo>
                <a:close/>
              </a:path>
              <a:path fill="lighten" w="91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Luminăţia voastr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Buton acțiune: Particularizare 24"/>
          <p:cNvSpPr/>
          <p:nvPr/>
        </p:nvSpPr>
        <p:spPr>
          <a:xfrm>
            <a:off x="6248520" y="4343400"/>
            <a:ext cx="2057400" cy="685800"/>
          </a:xfrm>
          <a:custGeom>
            <a:avLst/>
            <a:gdLst>
              <a:gd name="textAreaLeft" fmla="*/ 44280 w 2057400"/>
              <a:gd name="textAreaRight" fmla="*/ 2013120 w 2057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4777" h="21600">
                <a:moveTo>
                  <a:pt x="0" y="0"/>
                </a:moveTo>
                <a:lnTo>
                  <a:pt x="64777" y="0"/>
                </a:lnTo>
                <a:lnTo>
                  <a:pt x="64777" y="21600"/>
                </a:lnTo>
                <a:lnTo>
                  <a:pt x="0" y="21600"/>
                </a:lnTo>
                <a:close/>
              </a:path>
              <a:path fill="lightenLess" w="64777" h="21600">
                <a:moveTo>
                  <a:pt x="0" y="0"/>
                </a:moveTo>
                <a:lnTo>
                  <a:pt x="64777" y="0"/>
                </a:lnTo>
                <a:lnTo>
                  <a:pt x="63377" y="1400"/>
                </a:lnTo>
                <a:lnTo>
                  <a:pt x="1400" y="1400"/>
                </a:lnTo>
                <a:close/>
              </a:path>
              <a:path fill="darken" w="64777" h="21600">
                <a:moveTo>
                  <a:pt x="64777" y="0"/>
                </a:moveTo>
                <a:lnTo>
                  <a:pt x="64777" y="21600"/>
                </a:lnTo>
                <a:lnTo>
                  <a:pt x="63377" y="20200"/>
                </a:lnTo>
                <a:lnTo>
                  <a:pt x="63377" y="1400"/>
                </a:lnTo>
                <a:close/>
              </a:path>
              <a:path fill="darkenLess" w="64777" h="21600">
                <a:moveTo>
                  <a:pt x="64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77" y="20200"/>
                </a:lnTo>
                <a:close/>
              </a:path>
              <a:path fill="lighten" w="64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 </a:t>
            </a: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Înălţimea t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Buton acțiune: Particularizare 25"/>
          <p:cNvSpPr/>
          <p:nvPr/>
        </p:nvSpPr>
        <p:spPr>
          <a:xfrm>
            <a:off x="6248520" y="1752480"/>
            <a:ext cx="1904760" cy="685800"/>
          </a:xfrm>
          <a:custGeom>
            <a:avLst/>
            <a:gdLst>
              <a:gd name="textAreaLeft" fmla="*/ 44280 w 1904760"/>
              <a:gd name="textAreaRight" fmla="*/ 1860480 w 1904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9972" h="21600">
                <a:moveTo>
                  <a:pt x="0" y="0"/>
                </a:moveTo>
                <a:lnTo>
                  <a:pt x="59972" y="0"/>
                </a:lnTo>
                <a:lnTo>
                  <a:pt x="59972" y="21600"/>
                </a:lnTo>
                <a:lnTo>
                  <a:pt x="0" y="21600"/>
                </a:lnTo>
                <a:close/>
              </a:path>
              <a:path fill="lightenLess" w="59972" h="21600">
                <a:moveTo>
                  <a:pt x="0" y="0"/>
                </a:moveTo>
                <a:lnTo>
                  <a:pt x="59972" y="0"/>
                </a:lnTo>
                <a:lnTo>
                  <a:pt x="58572" y="1400"/>
                </a:lnTo>
                <a:lnTo>
                  <a:pt x="1400" y="1400"/>
                </a:lnTo>
                <a:close/>
              </a:path>
              <a:path fill="darken" w="59972" h="21600">
                <a:moveTo>
                  <a:pt x="59972" y="0"/>
                </a:moveTo>
                <a:lnTo>
                  <a:pt x="59972" y="21600"/>
                </a:lnTo>
                <a:lnTo>
                  <a:pt x="58572" y="20200"/>
                </a:lnTo>
                <a:lnTo>
                  <a:pt x="58572" y="1400"/>
                </a:lnTo>
                <a:close/>
              </a:path>
              <a:path fill="darkenLess" w="59972" h="21600">
                <a:moveTo>
                  <a:pt x="59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72" y="20200"/>
                </a:lnTo>
                <a:close/>
              </a:path>
              <a:path fill="lighten" w="59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omnia 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Buton acțiune: Particularizare 27"/>
          <p:cNvSpPr/>
          <p:nvPr/>
        </p:nvSpPr>
        <p:spPr>
          <a:xfrm>
            <a:off x="6248520" y="6019920"/>
            <a:ext cx="2514600" cy="685800"/>
          </a:xfrm>
          <a:custGeom>
            <a:avLst/>
            <a:gdLst>
              <a:gd name="textAreaLeft" fmla="*/ 44280 w 2514600"/>
              <a:gd name="textAreaRight" fmla="*/ 2470320 w 2514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9170" h="21600">
                <a:moveTo>
                  <a:pt x="0" y="0"/>
                </a:moveTo>
                <a:lnTo>
                  <a:pt x="79170" y="0"/>
                </a:lnTo>
                <a:lnTo>
                  <a:pt x="79170" y="21600"/>
                </a:lnTo>
                <a:lnTo>
                  <a:pt x="0" y="21600"/>
                </a:lnTo>
                <a:close/>
              </a:path>
              <a:path fill="lightenLess" w="79170" h="21600">
                <a:moveTo>
                  <a:pt x="0" y="0"/>
                </a:moveTo>
                <a:lnTo>
                  <a:pt x="79170" y="0"/>
                </a:lnTo>
                <a:lnTo>
                  <a:pt x="77770" y="1400"/>
                </a:lnTo>
                <a:lnTo>
                  <a:pt x="1400" y="1400"/>
                </a:lnTo>
                <a:close/>
              </a:path>
              <a:path fill="darken" w="79170" h="21600">
                <a:moveTo>
                  <a:pt x="79170" y="0"/>
                </a:moveTo>
                <a:lnTo>
                  <a:pt x="79170" y="21600"/>
                </a:lnTo>
                <a:lnTo>
                  <a:pt x="77770" y="20200"/>
                </a:lnTo>
                <a:lnTo>
                  <a:pt x="77770" y="1400"/>
                </a:lnTo>
                <a:close/>
              </a:path>
              <a:path fill="darkenLess" w="79170" h="21600">
                <a:moveTo>
                  <a:pt x="79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0" y="20200"/>
                </a:lnTo>
                <a:close/>
              </a:path>
              <a:path fill="lighten" w="79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 </a:t>
            </a: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Excelenţa s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0" y="0"/>
            <a:ext cx="5715000" cy="487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ronumele personale de politeţ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CasetăText 29"/>
          <p:cNvSpPr/>
          <p:nvPr/>
        </p:nvSpPr>
        <p:spPr>
          <a:xfrm>
            <a:off x="0" y="1371600"/>
            <a:ext cx="1905120" cy="801000"/>
          </a:xfrm>
          <a:prstGeom prst="downArrowCallout">
            <a:avLst>
              <a:gd name="adj1" fmla="val 25020"/>
              <a:gd name="adj2" fmla="val 25017"/>
              <a:gd name="adj3" fmla="val 25000"/>
              <a:gd name="adj4" fmla="val 64977"/>
            </a:avLst>
          </a:prstGeom>
          <a:solidFill>
            <a:srgbClr val="66ffff"/>
          </a:solidFill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De obic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CasetăText 30"/>
          <p:cNvSpPr/>
          <p:nvPr/>
        </p:nvSpPr>
        <p:spPr>
          <a:xfrm>
            <a:off x="6170400" y="0"/>
            <a:ext cx="2056680" cy="801000"/>
          </a:xfrm>
          <a:prstGeom prst="downArrowCallout">
            <a:avLst>
              <a:gd name="adj1" fmla="val 25061"/>
              <a:gd name="adj2" fmla="val 25070"/>
              <a:gd name="adj3" fmla="val 25000"/>
              <a:gd name="adj4" fmla="val 64977"/>
            </a:avLst>
          </a:prstGeom>
          <a:solidFill>
            <a:srgbClr val="66ffff"/>
          </a:solidFill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Protoco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CasetăText 31"/>
          <p:cNvSpPr/>
          <p:nvPr/>
        </p:nvSpPr>
        <p:spPr>
          <a:xfrm>
            <a:off x="3598200" y="762120"/>
            <a:ext cx="1644120" cy="801000"/>
          </a:xfrm>
          <a:prstGeom prst="downArrowCallout">
            <a:avLst>
              <a:gd name="adj1" fmla="val 24500"/>
              <a:gd name="adj2" fmla="val 24498"/>
              <a:gd name="adj3" fmla="val 25000"/>
              <a:gd name="adj4" fmla="val 64977"/>
            </a:avLst>
          </a:prstGeom>
          <a:solidFill>
            <a:srgbClr val="66ffff"/>
          </a:solidFill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Famili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11" descr="militia"/>
          <p:cNvPicPr/>
          <p:nvPr/>
        </p:nvPicPr>
        <p:blipFill>
          <a:blip r:embed="rId1"/>
          <a:stretch/>
        </p:blipFill>
        <p:spPr>
          <a:xfrm>
            <a:off x="3048120" y="304920"/>
            <a:ext cx="5508360" cy="3628800"/>
          </a:xfrm>
          <a:prstGeom prst="rect">
            <a:avLst/>
          </a:prstGeom>
          <a:ln w="0">
            <a:noFill/>
          </a:ln>
        </p:spPr>
      </p:pic>
      <p:sp>
        <p:nvSpPr>
          <p:cNvPr id="409" name="CasetăText 2"/>
          <p:cNvSpPr/>
          <p:nvPr/>
        </p:nvSpPr>
        <p:spPr>
          <a:xfrm>
            <a:off x="428400" y="4114800"/>
            <a:ext cx="8101080" cy="520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Eu, pe …………………………, domnule poli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ţist , vă cunosc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Buton acțiune: Particularizare 3">
            <a:hlinkClick r:id="rId2"/>
          </p:cNvPr>
          <p:cNvSpPr/>
          <p:nvPr/>
        </p:nvSpPr>
        <p:spPr>
          <a:xfrm>
            <a:off x="5715000" y="4876920"/>
            <a:ext cx="3124080" cy="609480"/>
          </a:xfrm>
          <a:custGeom>
            <a:avLst/>
            <a:gdLst>
              <a:gd name="textAreaLeft" fmla="*/ 39240 w 3124080"/>
              <a:gd name="textAreaRight" fmla="*/ 3084840 w 3124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0665" h="21600">
                <a:moveTo>
                  <a:pt x="0" y="0"/>
                </a:moveTo>
                <a:lnTo>
                  <a:pt x="110665" y="0"/>
                </a:lnTo>
                <a:lnTo>
                  <a:pt x="110665" y="21600"/>
                </a:lnTo>
                <a:lnTo>
                  <a:pt x="0" y="21600"/>
                </a:lnTo>
                <a:close/>
              </a:path>
              <a:path fill="lightenLess" w="110665" h="21600">
                <a:moveTo>
                  <a:pt x="0" y="0"/>
                </a:moveTo>
                <a:lnTo>
                  <a:pt x="110665" y="0"/>
                </a:lnTo>
                <a:lnTo>
                  <a:pt x="109265" y="1400"/>
                </a:lnTo>
                <a:lnTo>
                  <a:pt x="1400" y="1400"/>
                </a:lnTo>
                <a:close/>
              </a:path>
              <a:path fill="darken" w="110665" h="21600">
                <a:moveTo>
                  <a:pt x="110665" y="0"/>
                </a:moveTo>
                <a:lnTo>
                  <a:pt x="110665" y="21600"/>
                </a:lnTo>
                <a:lnTo>
                  <a:pt x="109265" y="20200"/>
                </a:lnTo>
                <a:lnTo>
                  <a:pt x="109265" y="1400"/>
                </a:lnTo>
                <a:close/>
              </a:path>
              <a:path fill="darkenLess" w="110665" h="21600">
                <a:moveTo>
                  <a:pt x="110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265" y="20200"/>
                </a:lnTo>
                <a:close/>
              </a:path>
              <a:path fill="lighten" w="110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dumneavoastr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Buton acțiune: Particularizare 4"/>
          <p:cNvSpPr/>
          <p:nvPr/>
        </p:nvSpPr>
        <p:spPr>
          <a:xfrm>
            <a:off x="228600" y="5562720"/>
            <a:ext cx="3048120" cy="685800"/>
          </a:xfrm>
          <a:custGeom>
            <a:avLst/>
            <a:gdLst>
              <a:gd name="textAreaLeft" fmla="*/ 44280 w 3048120"/>
              <a:gd name="textAreaRight" fmla="*/ 3003840 w 3048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5965" h="21600">
                <a:moveTo>
                  <a:pt x="0" y="0"/>
                </a:moveTo>
                <a:lnTo>
                  <a:pt x="95965" y="0"/>
                </a:lnTo>
                <a:lnTo>
                  <a:pt x="95965" y="21600"/>
                </a:lnTo>
                <a:lnTo>
                  <a:pt x="0" y="21600"/>
                </a:lnTo>
                <a:close/>
              </a:path>
              <a:path fill="lightenLess" w="95965" h="21600">
                <a:moveTo>
                  <a:pt x="0" y="0"/>
                </a:moveTo>
                <a:lnTo>
                  <a:pt x="95965" y="0"/>
                </a:lnTo>
                <a:lnTo>
                  <a:pt x="94565" y="1400"/>
                </a:lnTo>
                <a:lnTo>
                  <a:pt x="1400" y="1400"/>
                </a:lnTo>
                <a:close/>
              </a:path>
              <a:path fill="darken" w="95965" h="21600">
                <a:moveTo>
                  <a:pt x="95965" y="0"/>
                </a:moveTo>
                <a:lnTo>
                  <a:pt x="95965" y="21600"/>
                </a:lnTo>
                <a:lnTo>
                  <a:pt x="94565" y="20200"/>
                </a:lnTo>
                <a:lnTo>
                  <a:pt x="94565" y="1400"/>
                </a:lnTo>
                <a:close/>
              </a:path>
              <a:path fill="darkenLess" w="95965" h="21600">
                <a:moveTo>
                  <a:pt x="95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565" y="20200"/>
                </a:lnTo>
                <a:close/>
              </a:path>
              <a:path fill="lighten" w="95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dumneal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Buton acțiune: Particularizare 5"/>
          <p:cNvSpPr/>
          <p:nvPr/>
        </p:nvSpPr>
        <p:spPr>
          <a:xfrm>
            <a:off x="3733920" y="4800600"/>
            <a:ext cx="1676160" cy="685800"/>
          </a:xfrm>
          <a:custGeom>
            <a:avLst/>
            <a:gdLst>
              <a:gd name="textAreaLeft" fmla="*/ 44280 w 1676160"/>
              <a:gd name="textAreaRight" fmla="*/ 1631880 w 1676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76" h="21600">
                <a:moveTo>
                  <a:pt x="0" y="0"/>
                </a:moveTo>
                <a:lnTo>
                  <a:pt x="52776" y="0"/>
                </a:lnTo>
                <a:lnTo>
                  <a:pt x="52776" y="21600"/>
                </a:lnTo>
                <a:lnTo>
                  <a:pt x="0" y="21600"/>
                </a:lnTo>
                <a:close/>
              </a:path>
              <a:path fill="lightenLess" w="52776" h="21600">
                <a:moveTo>
                  <a:pt x="0" y="0"/>
                </a:moveTo>
                <a:lnTo>
                  <a:pt x="52776" y="0"/>
                </a:lnTo>
                <a:lnTo>
                  <a:pt x="51376" y="1400"/>
                </a:lnTo>
                <a:lnTo>
                  <a:pt x="1400" y="1400"/>
                </a:lnTo>
                <a:close/>
              </a:path>
              <a:path fill="darken" w="52776" h="21600">
                <a:moveTo>
                  <a:pt x="52776" y="0"/>
                </a:moveTo>
                <a:lnTo>
                  <a:pt x="52776" y="21600"/>
                </a:lnTo>
                <a:lnTo>
                  <a:pt x="51376" y="20200"/>
                </a:lnTo>
                <a:lnTo>
                  <a:pt x="51376" y="1400"/>
                </a:lnTo>
                <a:close/>
              </a:path>
              <a:path fill="darkenLess" w="52776" h="21600">
                <a:moveTo>
                  <a:pt x="5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76" y="20200"/>
                </a:lnTo>
                <a:close/>
              </a:path>
              <a:path fill="lighten" w="5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9976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ătăluţ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Buton acțiune: Particularizare 6"/>
          <p:cNvSpPr/>
          <p:nvPr/>
        </p:nvSpPr>
        <p:spPr>
          <a:xfrm>
            <a:off x="3733920" y="5791320"/>
            <a:ext cx="2590560" cy="685800"/>
          </a:xfrm>
          <a:custGeom>
            <a:avLst/>
            <a:gdLst>
              <a:gd name="textAreaLeft" fmla="*/ 44280 w 2590560"/>
              <a:gd name="textAreaRight" fmla="*/ 2546280 w 2590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81561" h="21600">
                <a:moveTo>
                  <a:pt x="0" y="0"/>
                </a:moveTo>
                <a:lnTo>
                  <a:pt x="81561" y="0"/>
                </a:lnTo>
                <a:lnTo>
                  <a:pt x="81561" y="21600"/>
                </a:lnTo>
                <a:lnTo>
                  <a:pt x="0" y="21600"/>
                </a:lnTo>
                <a:close/>
              </a:path>
              <a:path fill="lightenLess" w="81561" h="21600">
                <a:moveTo>
                  <a:pt x="0" y="0"/>
                </a:moveTo>
                <a:lnTo>
                  <a:pt x="81561" y="0"/>
                </a:lnTo>
                <a:lnTo>
                  <a:pt x="80161" y="1400"/>
                </a:lnTo>
                <a:lnTo>
                  <a:pt x="1400" y="1400"/>
                </a:lnTo>
                <a:close/>
              </a:path>
              <a:path fill="darken" w="81561" h="21600">
                <a:moveTo>
                  <a:pt x="81561" y="0"/>
                </a:moveTo>
                <a:lnTo>
                  <a:pt x="81561" y="21600"/>
                </a:lnTo>
                <a:lnTo>
                  <a:pt x="80161" y="20200"/>
                </a:lnTo>
                <a:lnTo>
                  <a:pt x="80161" y="1400"/>
                </a:lnTo>
                <a:close/>
              </a:path>
              <a:path fill="darkenLess" w="81561" h="21600">
                <a:moveTo>
                  <a:pt x="815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161" y="20200"/>
                </a:lnTo>
                <a:close/>
              </a:path>
              <a:path fill="lighten" w="815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omnia voastr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CasetăText 7"/>
          <p:cNvSpPr/>
          <p:nvPr/>
        </p:nvSpPr>
        <p:spPr>
          <a:xfrm>
            <a:off x="16200" y="1752480"/>
            <a:ext cx="2934720" cy="36828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CLIK pe varianta corect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reptunghi 2"/>
          <p:cNvSpPr/>
          <p:nvPr/>
        </p:nvSpPr>
        <p:spPr>
          <a:xfrm>
            <a:off x="3429000" y="304920"/>
            <a:ext cx="5334120" cy="1191240"/>
          </a:xfrm>
          <a:prstGeom prst="rect">
            <a:avLst/>
          </a:prstGeom>
          <a:solidFill>
            <a:srgbClr val="16e9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Înv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ăţă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torul se ridic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ă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de la catedr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ă.  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…………………….. se apropie de un b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ăi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at cu privirea sfioas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ă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5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2743200" cy="5715000"/>
          </a:xfrm>
          <a:prstGeom prst="rect">
            <a:avLst/>
          </a:prstGeom>
          <a:ln w="0">
            <a:noFill/>
          </a:ln>
        </p:spPr>
      </p:pic>
      <p:sp>
        <p:nvSpPr>
          <p:cNvPr id="417" name="Buton acțiune: Particularizare 6">
            <a:hlinkClick r:id="rId2"/>
          </p:cNvPr>
          <p:cNvSpPr/>
          <p:nvPr/>
        </p:nvSpPr>
        <p:spPr>
          <a:xfrm>
            <a:off x="4495680" y="4114800"/>
            <a:ext cx="2057400" cy="685800"/>
          </a:xfrm>
          <a:custGeom>
            <a:avLst/>
            <a:gdLst>
              <a:gd name="textAreaLeft" fmla="*/ 44280 w 2057400"/>
              <a:gd name="textAreaRight" fmla="*/ 2013120 w 2057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4777" h="21600">
                <a:moveTo>
                  <a:pt x="0" y="0"/>
                </a:moveTo>
                <a:lnTo>
                  <a:pt x="64777" y="0"/>
                </a:lnTo>
                <a:lnTo>
                  <a:pt x="64777" y="21600"/>
                </a:lnTo>
                <a:lnTo>
                  <a:pt x="0" y="21600"/>
                </a:lnTo>
                <a:close/>
              </a:path>
              <a:path fill="lightenLess" w="64777" h="21600">
                <a:moveTo>
                  <a:pt x="0" y="0"/>
                </a:moveTo>
                <a:lnTo>
                  <a:pt x="64777" y="0"/>
                </a:lnTo>
                <a:lnTo>
                  <a:pt x="63377" y="1400"/>
                </a:lnTo>
                <a:lnTo>
                  <a:pt x="1400" y="1400"/>
                </a:lnTo>
                <a:close/>
              </a:path>
              <a:path fill="darken" w="64777" h="21600">
                <a:moveTo>
                  <a:pt x="64777" y="0"/>
                </a:moveTo>
                <a:lnTo>
                  <a:pt x="64777" y="21600"/>
                </a:lnTo>
                <a:lnTo>
                  <a:pt x="63377" y="20200"/>
                </a:lnTo>
                <a:lnTo>
                  <a:pt x="63377" y="1400"/>
                </a:lnTo>
                <a:close/>
              </a:path>
              <a:path fill="darkenLess" w="64777" h="21600">
                <a:moveTo>
                  <a:pt x="64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77" y="20200"/>
                </a:lnTo>
                <a:close/>
              </a:path>
              <a:path fill="lighten" w="64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Buton acțiune: Particularizare 8"/>
          <p:cNvSpPr/>
          <p:nvPr/>
        </p:nvSpPr>
        <p:spPr>
          <a:xfrm>
            <a:off x="4572000" y="3124080"/>
            <a:ext cx="2895480" cy="685800"/>
          </a:xfrm>
          <a:custGeom>
            <a:avLst/>
            <a:gdLst>
              <a:gd name="textAreaLeft" fmla="*/ 44280 w 2895480"/>
              <a:gd name="textAreaRight" fmla="*/ 2851200 w 2895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60" h="21600">
                <a:moveTo>
                  <a:pt x="0" y="0"/>
                </a:moveTo>
                <a:lnTo>
                  <a:pt x="91160" y="0"/>
                </a:lnTo>
                <a:lnTo>
                  <a:pt x="91160" y="21600"/>
                </a:lnTo>
                <a:lnTo>
                  <a:pt x="0" y="21600"/>
                </a:lnTo>
                <a:close/>
              </a:path>
              <a:path fill="lightenLess" w="91160" h="21600">
                <a:moveTo>
                  <a:pt x="0" y="0"/>
                </a:moveTo>
                <a:lnTo>
                  <a:pt x="91160" y="0"/>
                </a:lnTo>
                <a:lnTo>
                  <a:pt x="89760" y="1400"/>
                </a:lnTo>
                <a:lnTo>
                  <a:pt x="1400" y="1400"/>
                </a:lnTo>
                <a:close/>
              </a:path>
              <a:path fill="darken" w="91160" h="21600">
                <a:moveTo>
                  <a:pt x="91160" y="0"/>
                </a:moveTo>
                <a:lnTo>
                  <a:pt x="91160" y="21600"/>
                </a:lnTo>
                <a:lnTo>
                  <a:pt x="89760" y="20200"/>
                </a:lnTo>
                <a:lnTo>
                  <a:pt x="89760" y="1400"/>
                </a:lnTo>
                <a:close/>
              </a:path>
              <a:path fill="darkenLess" w="91160" h="21600">
                <a:moveTo>
                  <a:pt x="91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60" y="20200"/>
                </a:lnTo>
                <a:close/>
              </a:path>
              <a:path fill="lighten" w="91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voast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Buton acțiune: Particularizare 9"/>
          <p:cNvSpPr/>
          <p:nvPr/>
        </p:nvSpPr>
        <p:spPr>
          <a:xfrm>
            <a:off x="4572000" y="2209680"/>
            <a:ext cx="1981080" cy="685800"/>
          </a:xfrm>
          <a:custGeom>
            <a:avLst/>
            <a:gdLst>
              <a:gd name="textAreaLeft" fmla="*/ 44280 w 1981080"/>
              <a:gd name="textAreaRight" fmla="*/ 1936800 w 1981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2375" h="21600">
                <a:moveTo>
                  <a:pt x="0" y="0"/>
                </a:moveTo>
                <a:lnTo>
                  <a:pt x="62375" y="0"/>
                </a:lnTo>
                <a:lnTo>
                  <a:pt x="62375" y="21600"/>
                </a:lnTo>
                <a:lnTo>
                  <a:pt x="0" y="21600"/>
                </a:lnTo>
                <a:close/>
              </a:path>
              <a:path fill="lightenLess" w="62375" h="21600">
                <a:moveTo>
                  <a:pt x="0" y="0"/>
                </a:moveTo>
                <a:lnTo>
                  <a:pt x="62375" y="0"/>
                </a:lnTo>
                <a:lnTo>
                  <a:pt x="60975" y="1400"/>
                </a:lnTo>
                <a:lnTo>
                  <a:pt x="1400" y="1400"/>
                </a:lnTo>
                <a:close/>
              </a:path>
              <a:path fill="darken" w="62375" h="21600">
                <a:moveTo>
                  <a:pt x="62375" y="0"/>
                </a:moveTo>
                <a:lnTo>
                  <a:pt x="62375" y="21600"/>
                </a:lnTo>
                <a:lnTo>
                  <a:pt x="60975" y="20200"/>
                </a:lnTo>
                <a:lnTo>
                  <a:pt x="60975" y="1400"/>
                </a:lnTo>
                <a:close/>
              </a:path>
              <a:path fill="darkenLess" w="62375" h="21600">
                <a:moveTo>
                  <a:pt x="6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975" y="20200"/>
                </a:lnTo>
                <a:close/>
              </a:path>
              <a:path fill="lighten" w="6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4" descr="AJBQNZ36S"/>
          <p:cNvPicPr/>
          <p:nvPr/>
        </p:nvPicPr>
        <p:blipFill>
          <a:blip r:embed="rId1"/>
          <a:srcRect l="7875" t="0" r="11250" b="0"/>
          <a:stretch/>
        </p:blipFill>
        <p:spPr>
          <a:xfrm>
            <a:off x="1752480" y="0"/>
            <a:ext cx="5105520" cy="4038480"/>
          </a:xfrm>
          <a:prstGeom prst="rect">
            <a:avLst/>
          </a:prstGeom>
          <a:ln w="0">
            <a:noFill/>
          </a:ln>
        </p:spPr>
      </p:pic>
      <p:sp>
        <p:nvSpPr>
          <p:cNvPr id="421" name="CasetăText 2"/>
          <p:cNvSpPr/>
          <p:nvPr/>
        </p:nvSpPr>
        <p:spPr>
          <a:xfrm>
            <a:off x="640440" y="4267080"/>
            <a:ext cx="7824960" cy="4597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f0be"/>
                </a:solidFill>
                <a:latin typeface="Arial"/>
              </a:rPr>
              <a:t>- ………………………., bunicule, nu te temi de alb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Buton acțiune: Particularizare 3"/>
          <p:cNvSpPr/>
          <p:nvPr/>
        </p:nvSpPr>
        <p:spPr>
          <a:xfrm>
            <a:off x="228600" y="5257800"/>
            <a:ext cx="2895480" cy="685800"/>
          </a:xfrm>
          <a:custGeom>
            <a:avLst/>
            <a:gdLst>
              <a:gd name="textAreaLeft" fmla="*/ 44280 w 2895480"/>
              <a:gd name="textAreaRight" fmla="*/ 2851200 w 2895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60" h="21600">
                <a:moveTo>
                  <a:pt x="0" y="0"/>
                </a:moveTo>
                <a:lnTo>
                  <a:pt x="91160" y="0"/>
                </a:lnTo>
                <a:lnTo>
                  <a:pt x="91160" y="21600"/>
                </a:lnTo>
                <a:lnTo>
                  <a:pt x="0" y="21600"/>
                </a:lnTo>
                <a:close/>
              </a:path>
              <a:path fill="lightenLess" w="91160" h="21600">
                <a:moveTo>
                  <a:pt x="0" y="0"/>
                </a:moveTo>
                <a:lnTo>
                  <a:pt x="91160" y="0"/>
                </a:lnTo>
                <a:lnTo>
                  <a:pt x="89760" y="1400"/>
                </a:lnTo>
                <a:lnTo>
                  <a:pt x="1400" y="1400"/>
                </a:lnTo>
                <a:close/>
              </a:path>
              <a:path fill="darken" w="91160" h="21600">
                <a:moveTo>
                  <a:pt x="91160" y="0"/>
                </a:moveTo>
                <a:lnTo>
                  <a:pt x="91160" y="21600"/>
                </a:lnTo>
                <a:lnTo>
                  <a:pt x="89760" y="20200"/>
                </a:lnTo>
                <a:lnTo>
                  <a:pt x="89760" y="1400"/>
                </a:lnTo>
                <a:close/>
              </a:path>
              <a:path fill="darkenLess" w="91160" h="21600">
                <a:moveTo>
                  <a:pt x="91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60" y="20200"/>
                </a:lnTo>
                <a:close/>
              </a:path>
              <a:path fill="lighten" w="91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voast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Buton acțiune: Particularizare 4"/>
          <p:cNvSpPr/>
          <p:nvPr/>
        </p:nvSpPr>
        <p:spPr>
          <a:xfrm>
            <a:off x="3581280" y="52578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ăria 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Buton acțiune: Particularizare 5">
            <a:hlinkClick r:id="rId2"/>
          </p:cNvPr>
          <p:cNvSpPr/>
          <p:nvPr/>
        </p:nvSpPr>
        <p:spPr>
          <a:xfrm>
            <a:off x="5410080" y="52578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9976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Buton acțiune: Particularizare 6"/>
          <p:cNvSpPr/>
          <p:nvPr/>
        </p:nvSpPr>
        <p:spPr>
          <a:xfrm>
            <a:off x="6934320" y="5257800"/>
            <a:ext cx="2057400" cy="685800"/>
          </a:xfrm>
          <a:custGeom>
            <a:avLst/>
            <a:gdLst>
              <a:gd name="textAreaLeft" fmla="*/ 44280 w 2057400"/>
              <a:gd name="textAreaRight" fmla="*/ 2013120 w 2057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4777" h="21600">
                <a:moveTo>
                  <a:pt x="0" y="0"/>
                </a:moveTo>
                <a:lnTo>
                  <a:pt x="64777" y="0"/>
                </a:lnTo>
                <a:lnTo>
                  <a:pt x="64777" y="21600"/>
                </a:lnTo>
                <a:lnTo>
                  <a:pt x="0" y="21600"/>
                </a:lnTo>
                <a:close/>
              </a:path>
              <a:path fill="lightenLess" w="64777" h="21600">
                <a:moveTo>
                  <a:pt x="0" y="0"/>
                </a:moveTo>
                <a:lnTo>
                  <a:pt x="64777" y="0"/>
                </a:lnTo>
                <a:lnTo>
                  <a:pt x="63377" y="1400"/>
                </a:lnTo>
                <a:lnTo>
                  <a:pt x="1400" y="1400"/>
                </a:lnTo>
                <a:close/>
              </a:path>
              <a:path fill="darken" w="64777" h="21600">
                <a:moveTo>
                  <a:pt x="64777" y="0"/>
                </a:moveTo>
                <a:lnTo>
                  <a:pt x="64777" y="21600"/>
                </a:lnTo>
                <a:lnTo>
                  <a:pt x="63377" y="20200"/>
                </a:lnTo>
                <a:lnTo>
                  <a:pt x="63377" y="1400"/>
                </a:lnTo>
                <a:close/>
              </a:path>
              <a:path fill="darkenLess" w="64777" h="21600">
                <a:moveTo>
                  <a:pt x="64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77" y="20200"/>
                </a:lnTo>
                <a:close/>
              </a:path>
              <a:path fill="lighten" w="64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8" descr="BD19923_"/>
          <p:cNvPicPr/>
          <p:nvPr/>
        </p:nvPicPr>
        <p:blipFill>
          <a:blip r:embed="rId1"/>
          <a:stretch/>
        </p:blipFill>
        <p:spPr>
          <a:xfrm>
            <a:off x="0" y="0"/>
            <a:ext cx="9212400" cy="3733920"/>
          </a:xfrm>
          <a:prstGeom prst="rect">
            <a:avLst/>
          </a:prstGeom>
          <a:ln w="0">
            <a:noFill/>
          </a:ln>
        </p:spPr>
      </p:pic>
      <p:sp>
        <p:nvSpPr>
          <p:cNvPr id="427" name="CasetăText 2"/>
          <p:cNvSpPr/>
          <p:nvPr/>
        </p:nvSpPr>
        <p:spPr>
          <a:xfrm>
            <a:off x="331200" y="4038480"/>
            <a:ext cx="8292600" cy="398880"/>
          </a:xfrm>
          <a:prstGeom prst="rect">
            <a:avLst/>
          </a:prstGeom>
          <a:solidFill>
            <a:srgbClr val="16e9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…………………………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nt</a:t>
            </a: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 profesorii mei. Acum sunt într-o şedinţ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Buton acțiune: Particularizare 3">
            <a:hlinkClick r:id="rId2"/>
          </p:cNvPr>
          <p:cNvSpPr/>
          <p:nvPr/>
        </p:nvSpPr>
        <p:spPr>
          <a:xfrm>
            <a:off x="5715000" y="4724280"/>
            <a:ext cx="2895480" cy="685800"/>
          </a:xfrm>
          <a:custGeom>
            <a:avLst/>
            <a:gdLst>
              <a:gd name="textAreaLeft" fmla="*/ 44280 w 2895480"/>
              <a:gd name="textAreaRight" fmla="*/ 2851200 w 2895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60" h="21600">
                <a:moveTo>
                  <a:pt x="0" y="0"/>
                </a:moveTo>
                <a:lnTo>
                  <a:pt x="91160" y="0"/>
                </a:lnTo>
                <a:lnTo>
                  <a:pt x="91160" y="21600"/>
                </a:lnTo>
                <a:lnTo>
                  <a:pt x="0" y="21600"/>
                </a:lnTo>
                <a:close/>
              </a:path>
              <a:path fill="lightenLess" w="91160" h="21600">
                <a:moveTo>
                  <a:pt x="0" y="0"/>
                </a:moveTo>
                <a:lnTo>
                  <a:pt x="91160" y="0"/>
                </a:lnTo>
                <a:lnTo>
                  <a:pt x="89760" y="1400"/>
                </a:lnTo>
                <a:lnTo>
                  <a:pt x="1400" y="1400"/>
                </a:lnTo>
                <a:close/>
              </a:path>
              <a:path fill="darken" w="91160" h="21600">
                <a:moveTo>
                  <a:pt x="91160" y="0"/>
                </a:moveTo>
                <a:lnTo>
                  <a:pt x="91160" y="21600"/>
                </a:lnTo>
                <a:lnTo>
                  <a:pt x="89760" y="20200"/>
                </a:lnTo>
                <a:lnTo>
                  <a:pt x="89760" y="1400"/>
                </a:lnTo>
                <a:close/>
              </a:path>
              <a:path fill="darkenLess" w="91160" h="21600">
                <a:moveTo>
                  <a:pt x="91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60" y="20200"/>
                </a:lnTo>
                <a:close/>
              </a:path>
              <a:path fill="lighten" w="91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Buton acțiune: Particularizare 4"/>
          <p:cNvSpPr/>
          <p:nvPr/>
        </p:nvSpPr>
        <p:spPr>
          <a:xfrm>
            <a:off x="228600" y="4648320"/>
            <a:ext cx="2057400" cy="685800"/>
          </a:xfrm>
          <a:custGeom>
            <a:avLst/>
            <a:gdLst>
              <a:gd name="textAreaLeft" fmla="*/ 44280 w 2057400"/>
              <a:gd name="textAreaRight" fmla="*/ 2013120 w 2057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4777" h="21600">
                <a:moveTo>
                  <a:pt x="0" y="0"/>
                </a:moveTo>
                <a:lnTo>
                  <a:pt x="64777" y="0"/>
                </a:lnTo>
                <a:lnTo>
                  <a:pt x="64777" y="21600"/>
                </a:lnTo>
                <a:lnTo>
                  <a:pt x="0" y="21600"/>
                </a:lnTo>
                <a:close/>
              </a:path>
              <a:path fill="lightenLess" w="64777" h="21600">
                <a:moveTo>
                  <a:pt x="0" y="0"/>
                </a:moveTo>
                <a:lnTo>
                  <a:pt x="64777" y="0"/>
                </a:lnTo>
                <a:lnTo>
                  <a:pt x="63377" y="1400"/>
                </a:lnTo>
                <a:lnTo>
                  <a:pt x="1400" y="1400"/>
                </a:lnTo>
                <a:close/>
              </a:path>
              <a:path fill="darken" w="64777" h="21600">
                <a:moveTo>
                  <a:pt x="64777" y="0"/>
                </a:moveTo>
                <a:lnTo>
                  <a:pt x="64777" y="21600"/>
                </a:lnTo>
                <a:lnTo>
                  <a:pt x="63377" y="20200"/>
                </a:lnTo>
                <a:lnTo>
                  <a:pt x="63377" y="1400"/>
                </a:lnTo>
                <a:close/>
              </a:path>
              <a:path fill="darkenLess" w="64777" h="21600">
                <a:moveTo>
                  <a:pt x="64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77" y="20200"/>
                </a:lnTo>
                <a:close/>
              </a:path>
              <a:path fill="lighten" w="64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l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Buton acțiune: Particularizare 5"/>
          <p:cNvSpPr/>
          <p:nvPr/>
        </p:nvSpPr>
        <p:spPr>
          <a:xfrm>
            <a:off x="1066680" y="5562720"/>
            <a:ext cx="1676520" cy="685800"/>
          </a:xfrm>
          <a:custGeom>
            <a:avLst/>
            <a:gdLst>
              <a:gd name="textAreaLeft" fmla="*/ 44280 w 1676520"/>
              <a:gd name="textAreaRight" fmla="*/ 1632240 w 16765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87" h="21600">
                <a:moveTo>
                  <a:pt x="0" y="0"/>
                </a:moveTo>
                <a:lnTo>
                  <a:pt x="52787" y="0"/>
                </a:lnTo>
                <a:lnTo>
                  <a:pt x="52787" y="21600"/>
                </a:lnTo>
                <a:lnTo>
                  <a:pt x="0" y="21600"/>
                </a:lnTo>
                <a:close/>
              </a:path>
              <a:path fill="lightenLess" w="52787" h="21600">
                <a:moveTo>
                  <a:pt x="0" y="0"/>
                </a:moveTo>
                <a:lnTo>
                  <a:pt x="52787" y="0"/>
                </a:lnTo>
                <a:lnTo>
                  <a:pt x="51387" y="1400"/>
                </a:lnTo>
                <a:lnTo>
                  <a:pt x="1400" y="1400"/>
                </a:lnTo>
                <a:close/>
              </a:path>
              <a:path fill="darken" w="52787" h="21600">
                <a:moveTo>
                  <a:pt x="52787" y="0"/>
                </a:moveTo>
                <a:lnTo>
                  <a:pt x="52787" y="21600"/>
                </a:lnTo>
                <a:lnTo>
                  <a:pt x="51387" y="20200"/>
                </a:lnTo>
                <a:lnTo>
                  <a:pt x="51387" y="1400"/>
                </a:lnTo>
                <a:close/>
              </a:path>
              <a:path fill="darkenLess" w="52787" h="21600">
                <a:moveTo>
                  <a:pt x="52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87" y="20200"/>
                </a:lnTo>
                <a:close/>
              </a:path>
              <a:path fill="lighten" w="52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9976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ătălic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Buton acțiune: Particularizare 6"/>
          <p:cNvSpPr/>
          <p:nvPr/>
        </p:nvSpPr>
        <p:spPr>
          <a:xfrm>
            <a:off x="3733920" y="5562720"/>
            <a:ext cx="2514600" cy="685800"/>
          </a:xfrm>
          <a:custGeom>
            <a:avLst/>
            <a:gdLst>
              <a:gd name="textAreaLeft" fmla="*/ 44280 w 2514600"/>
              <a:gd name="textAreaRight" fmla="*/ 2470320 w 2514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9170" h="21600">
                <a:moveTo>
                  <a:pt x="0" y="0"/>
                </a:moveTo>
                <a:lnTo>
                  <a:pt x="79170" y="0"/>
                </a:lnTo>
                <a:lnTo>
                  <a:pt x="79170" y="21600"/>
                </a:lnTo>
                <a:lnTo>
                  <a:pt x="0" y="21600"/>
                </a:lnTo>
                <a:close/>
              </a:path>
              <a:path fill="lightenLess" w="79170" h="21600">
                <a:moveTo>
                  <a:pt x="0" y="0"/>
                </a:moveTo>
                <a:lnTo>
                  <a:pt x="79170" y="0"/>
                </a:lnTo>
                <a:lnTo>
                  <a:pt x="77770" y="1400"/>
                </a:lnTo>
                <a:lnTo>
                  <a:pt x="1400" y="1400"/>
                </a:lnTo>
                <a:close/>
              </a:path>
              <a:path fill="darken" w="79170" h="21600">
                <a:moveTo>
                  <a:pt x="79170" y="0"/>
                </a:moveTo>
                <a:lnTo>
                  <a:pt x="79170" y="21600"/>
                </a:lnTo>
                <a:lnTo>
                  <a:pt x="77770" y="20200"/>
                </a:lnTo>
                <a:lnTo>
                  <a:pt x="77770" y="1400"/>
                </a:lnTo>
                <a:close/>
              </a:path>
              <a:path fill="darkenLess" w="79170" h="21600">
                <a:moveTo>
                  <a:pt x="79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70" y="20200"/>
                </a:lnTo>
                <a:close/>
              </a:path>
              <a:path fill="lighten" w="79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 </a:t>
            </a: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Excelenţa s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Buton acțiune: Particularizare 7"/>
          <p:cNvSpPr/>
          <p:nvPr/>
        </p:nvSpPr>
        <p:spPr>
          <a:xfrm>
            <a:off x="2514600" y="4724280"/>
            <a:ext cx="2895480" cy="685800"/>
          </a:xfrm>
          <a:custGeom>
            <a:avLst/>
            <a:gdLst>
              <a:gd name="textAreaLeft" fmla="*/ 44280 w 2895480"/>
              <a:gd name="textAreaRight" fmla="*/ 2851200 w 2895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60" h="21600">
                <a:moveTo>
                  <a:pt x="0" y="0"/>
                </a:moveTo>
                <a:lnTo>
                  <a:pt x="91160" y="0"/>
                </a:lnTo>
                <a:lnTo>
                  <a:pt x="91160" y="21600"/>
                </a:lnTo>
                <a:lnTo>
                  <a:pt x="0" y="21600"/>
                </a:lnTo>
                <a:close/>
              </a:path>
              <a:path fill="lightenLess" w="91160" h="21600">
                <a:moveTo>
                  <a:pt x="0" y="0"/>
                </a:moveTo>
                <a:lnTo>
                  <a:pt x="91160" y="0"/>
                </a:lnTo>
                <a:lnTo>
                  <a:pt x="89760" y="1400"/>
                </a:lnTo>
                <a:lnTo>
                  <a:pt x="1400" y="1400"/>
                </a:lnTo>
                <a:close/>
              </a:path>
              <a:path fill="darken" w="91160" h="21600">
                <a:moveTo>
                  <a:pt x="91160" y="0"/>
                </a:moveTo>
                <a:lnTo>
                  <a:pt x="91160" y="21600"/>
                </a:lnTo>
                <a:lnTo>
                  <a:pt x="89760" y="20200"/>
                </a:lnTo>
                <a:lnTo>
                  <a:pt x="89760" y="1400"/>
                </a:lnTo>
                <a:close/>
              </a:path>
              <a:path fill="darkenLess" w="91160" h="21600">
                <a:moveTo>
                  <a:pt x="91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60" y="20200"/>
                </a:lnTo>
                <a:close/>
              </a:path>
              <a:path fill="lighten" w="91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CasetăText 3"/>
          <p:cNvSpPr/>
          <p:nvPr/>
        </p:nvSpPr>
        <p:spPr>
          <a:xfrm>
            <a:off x="423720" y="3048120"/>
            <a:ext cx="7651440" cy="947160"/>
          </a:xfrm>
          <a:prstGeom prst="rect">
            <a:avLst/>
          </a:prstGeom>
          <a:solidFill>
            <a:srgbClr val="454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Mergem în excursie cu doamna învăţăto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……………………</a:t>
            </a: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va fi ghidul nost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Buton acțiune: Particularizare 4"/>
          <p:cNvSpPr/>
          <p:nvPr/>
        </p:nvSpPr>
        <p:spPr>
          <a:xfrm>
            <a:off x="3733920" y="426708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ăria 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Buton acțiune: Particularizare 5"/>
          <p:cNvSpPr/>
          <p:nvPr/>
        </p:nvSpPr>
        <p:spPr>
          <a:xfrm>
            <a:off x="457200" y="5867280"/>
            <a:ext cx="2590920" cy="685800"/>
          </a:xfrm>
          <a:custGeom>
            <a:avLst/>
            <a:gdLst>
              <a:gd name="textAreaLeft" fmla="*/ 44280 w 2590920"/>
              <a:gd name="textAreaRight" fmla="*/ 2546640 w 2590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81572" h="21600">
                <a:moveTo>
                  <a:pt x="0" y="0"/>
                </a:moveTo>
                <a:lnTo>
                  <a:pt x="81572" y="0"/>
                </a:lnTo>
                <a:lnTo>
                  <a:pt x="81572" y="21600"/>
                </a:lnTo>
                <a:lnTo>
                  <a:pt x="0" y="21600"/>
                </a:lnTo>
                <a:close/>
              </a:path>
              <a:path fill="lightenLess" w="81572" h="21600">
                <a:moveTo>
                  <a:pt x="0" y="0"/>
                </a:moveTo>
                <a:lnTo>
                  <a:pt x="81572" y="0"/>
                </a:lnTo>
                <a:lnTo>
                  <a:pt x="80172" y="1400"/>
                </a:lnTo>
                <a:lnTo>
                  <a:pt x="1400" y="1400"/>
                </a:lnTo>
                <a:close/>
              </a:path>
              <a:path fill="darken" w="81572" h="21600">
                <a:moveTo>
                  <a:pt x="81572" y="0"/>
                </a:moveTo>
                <a:lnTo>
                  <a:pt x="81572" y="21600"/>
                </a:lnTo>
                <a:lnTo>
                  <a:pt x="80172" y="20200"/>
                </a:lnTo>
                <a:lnTo>
                  <a:pt x="80172" y="1400"/>
                </a:lnTo>
                <a:close/>
              </a:path>
              <a:path fill="darkenLess" w="81572" h="21600">
                <a:moveTo>
                  <a:pt x="81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172" y="20200"/>
                </a:lnTo>
                <a:close/>
              </a:path>
              <a:path fill="lighten" w="81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omnia voastr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Buton acțiune: Particularizare 6">
            <a:hlinkClick r:id="rId1"/>
          </p:cNvPr>
          <p:cNvSpPr/>
          <p:nvPr/>
        </p:nvSpPr>
        <p:spPr>
          <a:xfrm>
            <a:off x="5867280" y="4343400"/>
            <a:ext cx="2895840" cy="685800"/>
          </a:xfrm>
          <a:custGeom>
            <a:avLst/>
            <a:gdLst>
              <a:gd name="textAreaLeft" fmla="*/ 44280 w 2895840"/>
              <a:gd name="textAreaRight" fmla="*/ 2851560 w 2895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71" h="21600">
                <a:moveTo>
                  <a:pt x="0" y="0"/>
                </a:moveTo>
                <a:lnTo>
                  <a:pt x="91171" y="0"/>
                </a:lnTo>
                <a:lnTo>
                  <a:pt x="91171" y="21600"/>
                </a:lnTo>
                <a:lnTo>
                  <a:pt x="0" y="21600"/>
                </a:lnTo>
                <a:close/>
              </a:path>
              <a:path fill="lightenLess" w="91171" h="21600">
                <a:moveTo>
                  <a:pt x="0" y="0"/>
                </a:moveTo>
                <a:lnTo>
                  <a:pt x="91171" y="0"/>
                </a:lnTo>
                <a:lnTo>
                  <a:pt x="89771" y="1400"/>
                </a:lnTo>
                <a:lnTo>
                  <a:pt x="1400" y="1400"/>
                </a:lnTo>
                <a:close/>
              </a:path>
              <a:path fill="darken" w="91171" h="21600">
                <a:moveTo>
                  <a:pt x="91171" y="0"/>
                </a:moveTo>
                <a:lnTo>
                  <a:pt x="91171" y="21600"/>
                </a:lnTo>
                <a:lnTo>
                  <a:pt x="89771" y="20200"/>
                </a:lnTo>
                <a:lnTo>
                  <a:pt x="89771" y="1400"/>
                </a:lnTo>
                <a:close/>
              </a:path>
              <a:path fill="darkenLess" w="91171" h="21600">
                <a:moveTo>
                  <a:pt x="91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71" y="20200"/>
                </a:lnTo>
                <a:close/>
              </a:path>
              <a:path fill="lighten" w="91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Buton acțiune: Particularizare 7"/>
          <p:cNvSpPr/>
          <p:nvPr/>
        </p:nvSpPr>
        <p:spPr>
          <a:xfrm>
            <a:off x="380880" y="4876920"/>
            <a:ext cx="2895840" cy="685800"/>
          </a:xfrm>
          <a:custGeom>
            <a:avLst/>
            <a:gdLst>
              <a:gd name="textAreaLeft" fmla="*/ 44280 w 2895840"/>
              <a:gd name="textAreaRight" fmla="*/ 2851560 w 2895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91171" h="21600">
                <a:moveTo>
                  <a:pt x="0" y="0"/>
                </a:moveTo>
                <a:lnTo>
                  <a:pt x="91171" y="0"/>
                </a:lnTo>
                <a:lnTo>
                  <a:pt x="91171" y="21600"/>
                </a:lnTo>
                <a:lnTo>
                  <a:pt x="0" y="21600"/>
                </a:lnTo>
                <a:close/>
              </a:path>
              <a:path fill="lightenLess" w="91171" h="21600">
                <a:moveTo>
                  <a:pt x="0" y="0"/>
                </a:moveTo>
                <a:lnTo>
                  <a:pt x="91171" y="0"/>
                </a:lnTo>
                <a:lnTo>
                  <a:pt x="89771" y="1400"/>
                </a:lnTo>
                <a:lnTo>
                  <a:pt x="1400" y="1400"/>
                </a:lnTo>
                <a:close/>
              </a:path>
              <a:path fill="darken" w="91171" h="21600">
                <a:moveTo>
                  <a:pt x="91171" y="0"/>
                </a:moveTo>
                <a:lnTo>
                  <a:pt x="91171" y="21600"/>
                </a:lnTo>
                <a:lnTo>
                  <a:pt x="89771" y="20200"/>
                </a:lnTo>
                <a:lnTo>
                  <a:pt x="89771" y="1400"/>
                </a:lnTo>
                <a:close/>
              </a:path>
              <a:path fill="darkenLess" w="91171" h="21600">
                <a:moveTo>
                  <a:pt x="91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71" y="20200"/>
                </a:lnTo>
                <a:close/>
              </a:path>
              <a:path fill="lighten" w="91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dumneavoast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Buton acțiune: Particularizare 8"/>
          <p:cNvSpPr/>
          <p:nvPr/>
        </p:nvSpPr>
        <p:spPr>
          <a:xfrm>
            <a:off x="3733920" y="5105520"/>
            <a:ext cx="1447560" cy="685800"/>
          </a:xfrm>
          <a:custGeom>
            <a:avLst/>
            <a:gdLst>
              <a:gd name="textAreaLeft" fmla="*/ 44280 w 1447560"/>
              <a:gd name="textAreaRight" fmla="*/ 1403280 w 14475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80" h="21600">
                <a:moveTo>
                  <a:pt x="0" y="0"/>
                </a:moveTo>
                <a:lnTo>
                  <a:pt x="45580" y="0"/>
                </a:lnTo>
                <a:lnTo>
                  <a:pt x="45580" y="21600"/>
                </a:lnTo>
                <a:lnTo>
                  <a:pt x="0" y="21600"/>
                </a:lnTo>
                <a:close/>
              </a:path>
              <a:path fill="lightenLess" w="45580" h="21600">
                <a:moveTo>
                  <a:pt x="0" y="0"/>
                </a:moveTo>
                <a:lnTo>
                  <a:pt x="45580" y="0"/>
                </a:lnTo>
                <a:lnTo>
                  <a:pt x="44180" y="1400"/>
                </a:lnTo>
                <a:lnTo>
                  <a:pt x="1400" y="1400"/>
                </a:lnTo>
                <a:close/>
              </a:path>
              <a:path fill="darken" w="45580" h="21600">
                <a:moveTo>
                  <a:pt x="45580" y="0"/>
                </a:moveTo>
                <a:lnTo>
                  <a:pt x="45580" y="21600"/>
                </a:lnTo>
                <a:lnTo>
                  <a:pt x="44180" y="20200"/>
                </a:lnTo>
                <a:lnTo>
                  <a:pt x="44180" y="1400"/>
                </a:lnTo>
                <a:close/>
              </a:path>
              <a:path fill="darkenLess" w="45580" h="21600">
                <a:moveTo>
                  <a:pt x="45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0" y="20200"/>
                </a:lnTo>
                <a:close/>
              </a:path>
              <a:path fill="lighten" w="45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9976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a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Buton acțiune: Particularizare 9"/>
          <p:cNvSpPr/>
          <p:nvPr/>
        </p:nvSpPr>
        <p:spPr>
          <a:xfrm>
            <a:off x="3733920" y="6019920"/>
            <a:ext cx="1676160" cy="685800"/>
          </a:xfrm>
          <a:custGeom>
            <a:avLst/>
            <a:gdLst>
              <a:gd name="textAreaLeft" fmla="*/ 44280 w 1676160"/>
              <a:gd name="textAreaRight" fmla="*/ 1631880 w 1676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76" h="21600">
                <a:moveTo>
                  <a:pt x="0" y="0"/>
                </a:moveTo>
                <a:lnTo>
                  <a:pt x="52776" y="0"/>
                </a:lnTo>
                <a:lnTo>
                  <a:pt x="52776" y="21600"/>
                </a:lnTo>
                <a:lnTo>
                  <a:pt x="0" y="21600"/>
                </a:lnTo>
                <a:close/>
              </a:path>
              <a:path fill="lightenLess" w="52776" h="21600">
                <a:moveTo>
                  <a:pt x="0" y="0"/>
                </a:moveTo>
                <a:lnTo>
                  <a:pt x="52776" y="0"/>
                </a:lnTo>
                <a:lnTo>
                  <a:pt x="51376" y="1400"/>
                </a:lnTo>
                <a:lnTo>
                  <a:pt x="1400" y="1400"/>
                </a:lnTo>
                <a:close/>
              </a:path>
              <a:path fill="darken" w="52776" h="21600">
                <a:moveTo>
                  <a:pt x="52776" y="0"/>
                </a:moveTo>
                <a:lnTo>
                  <a:pt x="52776" y="21600"/>
                </a:lnTo>
                <a:lnTo>
                  <a:pt x="51376" y="20200"/>
                </a:lnTo>
                <a:lnTo>
                  <a:pt x="51376" y="1400"/>
                </a:lnTo>
                <a:close/>
              </a:path>
              <a:path fill="darkenLess" w="52776" h="21600">
                <a:moveTo>
                  <a:pt x="5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76" y="20200"/>
                </a:lnTo>
                <a:close/>
              </a:path>
              <a:path fill="lighten" w="5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69976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mătăluţ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Buton acțiune: Particularizare 11"/>
          <p:cNvSpPr/>
          <p:nvPr/>
        </p:nvSpPr>
        <p:spPr>
          <a:xfrm>
            <a:off x="5867280" y="5257800"/>
            <a:ext cx="2057400" cy="685800"/>
          </a:xfrm>
          <a:custGeom>
            <a:avLst/>
            <a:gdLst>
              <a:gd name="textAreaLeft" fmla="*/ 44280 w 2057400"/>
              <a:gd name="textAreaRight" fmla="*/ 2013120 w 2057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64777" h="21600">
                <a:moveTo>
                  <a:pt x="0" y="0"/>
                </a:moveTo>
                <a:lnTo>
                  <a:pt x="64777" y="0"/>
                </a:lnTo>
                <a:lnTo>
                  <a:pt x="64777" y="21600"/>
                </a:lnTo>
                <a:lnTo>
                  <a:pt x="0" y="21600"/>
                </a:lnTo>
                <a:close/>
              </a:path>
              <a:path fill="lightenLess" w="64777" h="21600">
                <a:moveTo>
                  <a:pt x="0" y="0"/>
                </a:moveTo>
                <a:lnTo>
                  <a:pt x="64777" y="0"/>
                </a:lnTo>
                <a:lnTo>
                  <a:pt x="63377" y="1400"/>
                </a:lnTo>
                <a:lnTo>
                  <a:pt x="1400" y="1400"/>
                </a:lnTo>
                <a:close/>
              </a:path>
              <a:path fill="darken" w="64777" h="21600">
                <a:moveTo>
                  <a:pt x="64777" y="0"/>
                </a:moveTo>
                <a:lnTo>
                  <a:pt x="64777" y="21600"/>
                </a:lnTo>
                <a:lnTo>
                  <a:pt x="63377" y="20200"/>
                </a:lnTo>
                <a:lnTo>
                  <a:pt x="63377" y="1400"/>
                </a:lnTo>
                <a:close/>
              </a:path>
              <a:path fill="darkenLess" w="64777" h="21600">
                <a:moveTo>
                  <a:pt x="647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77" y="20200"/>
                </a:lnTo>
                <a:close/>
              </a:path>
              <a:path fill="lighten" w="647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51515"/>
          </a:solidFill>
          <a:ln w="25560">
            <a:solidFill>
              <a:srgbClr val="00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 </a:t>
            </a:r>
            <a:r>
              <a:rPr b="1" lang="ro-RO" sz="2400" spc="-1" strike="noStrike">
                <a:solidFill>
                  <a:srgbClr val="64f0be"/>
                </a:solidFill>
                <a:latin typeface="Arial"/>
                <a:ea typeface="Arial"/>
              </a:rPr>
              <a:t>Înălţimea t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6" descr="Picture55"/>
          <p:cNvPicPr/>
          <p:nvPr/>
        </p:nvPicPr>
        <p:blipFill>
          <a:blip r:embed="rId2"/>
          <a:stretch/>
        </p:blipFill>
        <p:spPr>
          <a:xfrm>
            <a:off x="914400" y="0"/>
            <a:ext cx="72388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6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6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4:58:56Z</dcterms:created>
  <dc:creator>Mioara</dc:creator>
  <dc:description/>
  <dc:language>en-US</dc:language>
  <cp:lastModifiedBy>Mioara</cp:lastModifiedBy>
  <dcterms:modified xsi:type="dcterms:W3CDTF">2009-02-23T17:58:06Z</dcterms:modified>
  <cp:revision>34</cp:revision>
  <dc:subject/>
  <dc:title>Diapozitivul 1</dc:title>
</cp:coreProperties>
</file>